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CF73-2CFB-4B98-BD46-AE90785B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0B86-C458-4027-B447-0B275489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7C19-4109-4BAD-84E8-8EBADD34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8567-E7EF-4C9D-8CE4-261E1257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7546-9460-4052-8E00-4E8E2AB8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37C2-9B39-4B40-B707-699692E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B64-7EFB-43D5-A189-D6EF53B0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7DFC-5365-4EAC-A962-4A322386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3CE4-C71A-48F9-998C-368AFC51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92DE-E3AC-4C1A-A361-A367E788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E663-2B43-4FAD-8404-F4312FD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420B-1764-47B8-9DB8-3B5640C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76E2-9FD8-4FEE-83C5-26245195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B7F-38FD-4F22-82CD-610B50F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550-7575-421E-A641-0B927EB1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E90A-4A55-4446-A10F-697AFFEE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4BCA-D74D-45EC-BF2F-AE60CA65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942C-150B-4442-AECF-18A89E60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E87B-F041-45B7-BA7A-058DF13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F847-C565-4188-B0FD-B685E35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E2822-DBBB-48CA-9798-4E8C2B1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92C3-FAAE-4A38-91B0-99F626C8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7BBC-E0BB-4D80-9B92-4F28F29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0799-61B8-4CAD-98C4-6A9A57D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42720" y="833580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981B-663E-4F60-946B-069508B15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3" name="Group 5"/>
            <p:cNvGrpSpPr/>
            <p:nvPr/>
          </p:nvGrpSpPr>
          <p:grpSpPr>
            <a:xfrm>
              <a:off x="2057400" y="4719600"/>
              <a:ext cx="4794840" cy="4412160"/>
              <a:chOff x="2057400" y="4719600"/>
              <a:chExt cx="4794840" cy="44121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057400" y="5595120"/>
                <a:ext cx="342936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962960" y="5652360"/>
                <a:ext cx="149760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451680" y="7081200"/>
                <a:ext cx="338976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3270960" y="4719600"/>
                <a:ext cx="358128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56800" y="4903200"/>
                <a:ext cx="148464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2343240" y="833112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6856560" cy="9131760"/>
            <a:chOff x="0" y="0"/>
            <a:chExt cx="6856560" cy="9131760"/>
          </a:xfrm>
        </p:grpSpPr>
        <p:grpSp>
          <p:nvGrpSpPr>
            <p:cNvPr id="51" name="Group 3"/>
            <p:cNvGrpSpPr/>
            <p:nvPr/>
          </p:nvGrpSpPr>
          <p:grpSpPr>
            <a:xfrm>
              <a:off x="2057400" y="4719600"/>
              <a:ext cx="4795920" cy="4412160"/>
              <a:chOff x="2057400" y="4719600"/>
              <a:chExt cx="4795920" cy="441216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057400" y="5595120"/>
                <a:ext cx="3431880" cy="35362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4965120" y="5652360"/>
                <a:ext cx="1498680" cy="1716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3452760" y="7081200"/>
                <a:ext cx="3392280" cy="205056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3271680" y="4719600"/>
                <a:ext cx="3581640" cy="4412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5359320" y="4903200"/>
                <a:ext cx="1485720" cy="1140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3955680" y="2837880"/>
              <a:ext cx="2172960" cy="325296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6856560" cy="375876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343240" y="833580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914720" y="83390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4329-5B70-4269-856B-DA3C2E401D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24000"/>
            <a:ext cx="682452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Применение приёмов «Шаг за шагом» при подготовке обучающихся основной школы к ОГЭ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Составитель:  С.И. Гаук , учитель русского языка и литературы ГБОУ СОШ №5 «ОЦ «Лидер»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720" y="3898800"/>
            <a:ext cx="61722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6" descr="https://donschool91.files.wordpress.com/2018/03/b9d71-25d0259d25d025b02b25d1258125d025b025d025b925d1258225d025b52b22-11-17.jpg"/>
          <p:cNvPicPr/>
          <p:nvPr/>
        </p:nvPicPr>
        <p:blipFill>
          <a:blip r:embed="rId1"/>
          <a:stretch/>
        </p:blipFill>
        <p:spPr>
          <a:xfrm>
            <a:off x="-133200" y="3902040"/>
            <a:ext cx="6960960" cy="5218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1115640"/>
            <a:ext cx="61722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апка в помощь ученику</a:t>
            </a:r>
            <a:br>
              <a:rPr sz="4400"/>
            </a:br>
            <a:br>
              <a:rPr sz="4000"/>
            </a:b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1440" y="2080800"/>
            <a:ext cx="6172200" cy="63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ие свед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решений тестовых заданий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 и таблиц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е конспект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Picture 2" descr="Picture background"/>
          <p:cNvPicPr/>
          <p:nvPr/>
        </p:nvPicPr>
        <p:blipFill>
          <a:blip r:embed="rId1"/>
          <a:stretch/>
        </p:blipFill>
        <p:spPr>
          <a:xfrm>
            <a:off x="2133720" y="6156360"/>
            <a:ext cx="4724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93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Garamond"/>
              </a:rPr>
              <a:t>Спасибо за внимание</a:t>
            </a:r>
            <a:endParaRPr b="1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42720" y="468360"/>
            <a:ext cx="61815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Учись учиться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посещение курсов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обмен опытом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изучение образовательных стандартов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знание критериев оцениван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1601640" y="4427640"/>
            <a:ext cx="525636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42720" y="468000"/>
            <a:ext cx="6172200" cy="77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Направления работы предметной подготовки учащихся к ОГЭ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развитие мотивации и целеполагани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формирование умения решать задания разного уровн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развитие самоконтроля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формирование уверенности и положительной самооценки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343080" y="6084720"/>
            <a:ext cx="61722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Учебно-методические пособия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Picture 4" descr="Picture background"/>
          <p:cNvPicPr/>
          <p:nvPr/>
        </p:nvPicPr>
        <p:blipFill>
          <a:blip r:embed="rId1"/>
          <a:stretch/>
        </p:blipFill>
        <p:spPr>
          <a:xfrm>
            <a:off x="189000" y="1890720"/>
            <a:ext cx="306396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icture background"/>
          <p:cNvPicPr/>
          <p:nvPr/>
        </p:nvPicPr>
        <p:blipFill>
          <a:blip r:embed="rId2"/>
          <a:stretch/>
        </p:blipFill>
        <p:spPr>
          <a:xfrm>
            <a:off x="2265480" y="6018120"/>
            <a:ext cx="2592360" cy="3225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Picture background"/>
          <p:cNvPicPr/>
          <p:nvPr/>
        </p:nvPicPr>
        <p:blipFill>
          <a:blip r:embed="rId3"/>
          <a:stretch/>
        </p:blipFill>
        <p:spPr>
          <a:xfrm>
            <a:off x="3544920" y="1890720"/>
            <a:ext cx="2952720" cy="412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1164960"/>
            <a:ext cx="528156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7101000" cy="914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Составление памяток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aramond"/>
              </a:rPr>
              <a:t>Алгоритм рассуждения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Первый шаг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ВСПОМИНАЕМ ТЕОРИЮ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торой шаг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СОЗДАЕМ АЛГОРИТМ РЕШЕНИЯ ТЕСТОВЫХ «ЗАДАЧ»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Третий шаг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СЛУШАЕМ ДРУГ ДРУГА.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Четвёртый шаг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aramond"/>
              </a:rPr>
              <a:t>РЕШАЕМ 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Picture 2" descr="Picture background"/>
          <p:cNvPicPr/>
          <p:nvPr/>
        </p:nvPicPr>
        <p:blipFill>
          <a:blip r:embed="rId1"/>
          <a:stretch/>
        </p:blipFill>
        <p:spPr>
          <a:xfrm>
            <a:off x="38160" y="0"/>
            <a:ext cx="6819840" cy="9144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Picture 2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7007400" cy="914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0" name="Picture 4" descr="Picture background"/>
          <p:cNvPicPr/>
          <p:nvPr/>
        </p:nvPicPr>
        <p:blipFill>
          <a:blip r:embed="rId1"/>
          <a:stretch/>
        </p:blipFill>
        <p:spPr>
          <a:xfrm>
            <a:off x="0" y="0"/>
            <a:ext cx="7007400" cy="9144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58:17Z</dcterms:created>
  <dc:creator>1</dc:creator>
  <dc:description/>
  <dc:language>en-US</dc:language>
  <cp:lastModifiedBy>Гаук С.И.</cp:lastModifiedBy>
  <dcterms:modified xsi:type="dcterms:W3CDTF">2024-08-27T14:13:38Z</dcterms:modified>
  <cp:revision>84</cp:revision>
  <dc:subject/>
  <dc:title>Система работы учителя русского языка по подготовке к ЕГЭ</dc:title>
</cp:coreProperties>
</file>