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DEF-FF81-4E15-82F5-19FD5E07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858-40FE-4B33-A20A-E5F76F12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82E-D6FC-4753-979B-395C6A2F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31D-8168-4BB5-9948-8E80D50B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448A-307C-446D-87D2-DC9DD10A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0822-BE7C-4E09-AE00-664C9E54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4853-3EB1-4939-8FDE-2ACC8FE1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ABC-E6ED-4EBA-BB1D-E41F3B0C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24C-A392-476A-BD5C-C8AB659C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9451-379E-490F-99A7-6E8ADD70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8DA2-0B7E-4362-8A15-8FBF1B8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567-E85F-4B8A-8BDB-AC2A507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52EE-ECCF-43D0-948C-A08A6EC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7999-6B3A-4429-AC0D-43483275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329B-62C8-46FA-8C08-2DD15F61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9EE6-DE9C-444F-A1CF-BBA3B1F1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73F-39D5-41FC-BFC0-EC994B31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FE6D-2635-4801-83CA-1A7A40F8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2997-0744-4E11-BC64-1B802B87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BAC3-ED74-4AF5-B8DF-0364FE25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5603-37D4-4CBF-9455-94846E38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BC5C-B447-4FCA-BD40-A57F26B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FC6-4841-4DC7-99F7-5A0D720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7F37-453E-4216-956C-811414CD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BDAA-6592-47E3-9007-1A6D7FF8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F489-6F94-4E77-89E1-67BAD35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721A5-B7D7-4053-9826-14C1C21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7955-BF57-4B5B-8BD7-528CD898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B4EE-6781-44DD-A4ED-F9CF148F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0C6E-94FA-4ABE-8352-CE6885F5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2099-523A-45D5-9FB4-7A15EA8C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FE26-EBB5-497E-AB55-24B62624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D1E6-E533-487B-8B2A-73AC8CD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2A2-B33E-441A-84AE-8506B2E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6B827-C6C5-4110-B27F-36458B60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BCB4-30FA-4569-8222-060C4CF6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E402-246C-4CC6-B3B5-30BB6DF1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1E22-D986-46D6-9BBC-7B07647E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83AA-E78A-48EB-B72F-6502465C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D19D-6E61-4901-8458-C560356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219E-FD23-43D9-87E2-A3AE6FF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E931-FC95-44DC-B2CD-3357E44A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BD04-5095-463E-B21A-A60CD885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ECF0-6776-402E-B019-30DEED7D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C32-02F3-4FCE-B2B3-5CEE274D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0208F-0AF0-4CEA-9B7D-6FE16044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9E37D-D0D5-46CF-B75A-D5E2E34C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74E7-1AFF-4F96-8E96-A73F2D51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A738-75E9-4149-831B-F655B83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D22B2-F6DF-4D0D-94B5-B49577AD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75648-CF04-4DD2-8406-DCD312D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29871-50B4-4986-8257-0DF7745B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DCD5-71C0-4955-8E8E-B788F8E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F66C-EDFB-4F8D-B0DF-473668FB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0EEE8-D233-4E16-86CD-E34B02F2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541-4CF7-4857-A4C1-32B97D0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8B4E-CD49-4536-8293-DE590978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D539-DF60-422C-A663-AC6C1A60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45BE-A490-495A-94AB-A0102B65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6BF8-8A16-4BA0-B65F-6C180CAE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9BD0-EA1B-46A4-9260-F219B96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AAE0-002D-440D-BCAD-C26230B0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2250-C781-4932-BF9A-9469E7B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EB46D-0DF1-4F7D-807D-0CAF3F3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3F90C-07DD-4255-91BD-10F0612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BBC59-472D-4488-AE7C-70410E5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AE9-0F8A-4FE3-9A74-25FBC37E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D3C2E-4048-4E3F-81A1-28D69D9B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499FD-22AD-4992-9F02-1570438B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E03C-9C38-44F8-B806-3DA14EF5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3EAB5-EA8D-4B09-AA47-B307CBF1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88F71-B0F5-4BD0-AE31-F3548DFF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15CA5-645A-4513-ABE1-38C7DA5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9281-527E-491A-84D4-73F8A02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0278-AFEA-4726-9BBB-DFE705F4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A464D-A2AA-43B1-BC5A-8DD835D0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38CBB-3C58-4989-8EF5-DB0477A3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14B-893F-4BA0-9899-3E29F9C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AC08-0C65-400E-A47D-4D43985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1CA4-2973-49C5-A2E7-FD2922E7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24A4E-4DD4-4F48-BD6C-CF309F62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3BB6-C0DC-478D-8698-1745C17D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A97BF-26D5-4CB8-98E8-74FF80B8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6367D-D610-4A2F-9FFF-37107027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4BBC-3840-4B44-8EA0-9A904AC5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55F7E-D73E-4006-83AA-4EDA9FE9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058AA-A419-4DDF-A62B-B05D3142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09989-94E8-44F0-ADAC-9C752A4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346-C42B-49AE-9B09-782811FF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3CC9-7FC2-4335-9085-0DB06524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DF531-BE84-46F9-B10D-D729CF0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52CC3-7DAB-47B2-B7ED-9526A438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6A526-2CB7-4983-B9F3-9991017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2B6D-472C-408B-80F9-65EFCD8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FE54-72C3-4930-A9C6-6D1B2066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55BAA-DB89-49C2-BE50-18749A56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AFF9-D62E-4F44-8442-4D48120570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B7E3-5337-4D40-9F1C-8EED053BD2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076E-3748-48D6-BC98-739C219DCA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F7B0-F570-46E8-A220-07A8F415C8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CC6F-D23E-48E8-B3E7-F190437DFC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BC51-CEEC-4EAE-9BFE-0980FBBC71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BDA-F0FA-41D6-A558-A93ED2C820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824-057E-4B6D-BBA1-F7A96139560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2" descr=""/>
          <p:cNvPicPr/>
          <p:nvPr/>
        </p:nvPicPr>
        <p:blipFill>
          <a:blip r:embed="rId1"/>
          <a:stretch/>
        </p:blipFill>
        <p:spPr>
          <a:xfrm>
            <a:off x="676440" y="182520"/>
            <a:ext cx="7877160" cy="375624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1"/>
          <p:cNvSpPr/>
          <p:nvPr/>
        </p:nvSpPr>
        <p:spPr>
          <a:xfrm>
            <a:off x="1116000" y="296712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Хлебунова Юлия Александровна, учитель русского языка и литературы ГБОУ СОШ № 2 п.г.т. Усть-Кин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02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684360" y="466560"/>
            <a:ext cx="820872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бочий лист к сочинению-описанию природы и ме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 картине И. Бродского «Летний сад осенью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смотри внимательно картину и определи, какие объекты изображены на переднем плане, а какие - на заднем. Опиши их дета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спользуя собранный материал, составь текст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пиши общее вступ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 В основной части напиши, что конкретно ты вид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ОССТАНОВИ ПРОПУЩЕННЫЙ ТЕКСТ и продолжи описание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пример, на переднем плане картины мы видим старую уютную беседку. Она деревянная, бледно-голубого цвета, с тёмной крышей и …. Как приветливая хозяйка, она приглашает гостей Летнего сада уединиться и отдохн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 центре картины – уходящая вдаль дорожка. Она широкая, каменистая.... Вдалеке виднеется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забудь написать заключен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(укажи, какое настроение создает изображ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3" descr="C:\Users\User\Desktop\картинки с шаттерстока\shutterstock_109792205.jpg"/>
          <p:cNvPicPr/>
          <p:nvPr/>
        </p:nvPicPr>
        <p:blipFill>
          <a:blip r:embed="rId2"/>
          <a:srcRect l="0" t="-499" r="-347" b="-779"/>
          <a:stretch/>
        </p:blipFill>
        <p:spPr>
          <a:xfrm>
            <a:off x="7273800" y="4518000"/>
            <a:ext cx="1870200" cy="23400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shutterstock_149636930"/>
          <p:cNvPicPr/>
          <p:nvPr/>
        </p:nvPicPr>
        <p:blipFill>
          <a:blip r:embed="rId3"/>
          <a:srcRect l="-219" t="-690" r="-142" b="-1013"/>
          <a:stretch/>
        </p:blipFill>
        <p:spPr>
          <a:xfrm>
            <a:off x="2643120" y="2500200"/>
            <a:ext cx="2809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0" y="970920"/>
            <a:ext cx="7858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review-image" descr="http://ksosh1.ru/images/1197715576.jpg"/>
          <p:cNvPicPr/>
          <p:nvPr/>
        </p:nvPicPr>
        <p:blipFill>
          <a:blip r:embed="rId1"/>
          <a:stretch/>
        </p:blipFill>
        <p:spPr>
          <a:xfrm>
            <a:off x="1928880" y="2571840"/>
            <a:ext cx="4646520" cy="3097080"/>
          </a:xfrm>
          <a:prstGeom prst="rect">
            <a:avLst/>
          </a:prstGeom>
          <a:ln w="0">
            <a:noFill/>
          </a:ln>
        </p:spPr>
      </p:pic>
      <p:pic>
        <p:nvPicPr>
          <p:cNvPr id="374" name="Заголовок 3" descr=""/>
          <p:cNvPicPr/>
          <p:nvPr/>
        </p:nvPicPr>
        <p:blipFill>
          <a:blip r:embed="rId2"/>
          <a:stretch/>
        </p:blipFill>
        <p:spPr>
          <a:xfrm>
            <a:off x="-6480" y="18900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-15840" y="10526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дание 3. Монологическое высказывани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на основе описания фотографи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214200" y="-743760"/>
            <a:ext cx="8072640" cy="85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Book Antiqua"/>
              </a:rPr>
              <a:t>Методические приё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бес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расск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работа с учебн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с наглядным материал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опорной схемой в Рабочих лис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составление пла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запись конспекта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Black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http://kak.znate.ru/pars_docs/refs/20/19984/19984-4_1.jpg"/>
          <p:cNvPicPr/>
          <p:nvPr/>
        </p:nvPicPr>
        <p:blipFill>
          <a:blip r:embed="rId1"/>
          <a:stretch/>
        </p:blipFill>
        <p:spPr>
          <a:xfrm>
            <a:off x="6429240" y="3860640"/>
            <a:ext cx="22575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214200" y="142920"/>
            <a:ext cx="892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1" descr="&amp;Kcy;&amp;acy;&amp;kcy; &amp;pcy;&amp;icy;&amp;shcy;&amp;ucy;&amp;tcy; &amp;tcy;&amp;iecy;&amp;zcy;&amp;icy;&amp;scy;&amp;ycy;"/>
          <p:cNvPicPr/>
          <p:nvPr/>
        </p:nvPicPr>
        <p:blipFill>
          <a:blip r:embed="rId1"/>
          <a:stretch/>
        </p:blipFill>
        <p:spPr>
          <a:xfrm>
            <a:off x="285840" y="0"/>
            <a:ext cx="1218960" cy="8650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"/>
          <p:cNvSpPr/>
          <p:nvPr/>
        </p:nvSpPr>
        <p:spPr>
          <a:xfrm>
            <a:off x="1576440" y="474840"/>
            <a:ext cx="70279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1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960720" cy="33116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285840" y="3244680"/>
            <a:ext cx="40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Кончал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"Сирень в корзине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3" descr=""/>
          <p:cNvPicPr/>
          <p:nvPr/>
        </p:nvPicPr>
        <p:blipFill>
          <a:blip r:embed="rId3"/>
          <a:stretch/>
        </p:blipFill>
        <p:spPr>
          <a:xfrm>
            <a:off x="5403960" y="142920"/>
            <a:ext cx="3200400" cy="32860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4"/>
          <p:cNvSpPr/>
          <p:nvPr/>
        </p:nvSpPr>
        <p:spPr>
          <a:xfrm>
            <a:off x="5219640" y="32446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Грабарь Февральская лазу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5" descr=""/>
          <p:cNvPicPr/>
          <p:nvPr/>
        </p:nvPicPr>
        <p:blipFill>
          <a:blip r:embed="rId4"/>
          <a:stretch/>
        </p:blipFill>
        <p:spPr>
          <a:xfrm>
            <a:off x="5403960" y="3713040"/>
            <a:ext cx="2984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357120" y="-1198440"/>
            <a:ext cx="8429760" cy="8007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План сочинения – описания изображе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(фотографии, репродукции картины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для 5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1. Внимательно рассмотрите изображ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2. Какое явление, событие изображено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3. Как вы думаете, почему фотограф запечатлел именно этот момент (событие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4. Кто или что выделено на снимке особо (цветом или композиционно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5. Опишите людей, животны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Назовите главного героя (героев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Его (их) занят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Внешний облик: лицо (-а), волосы, одежд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Позу (-ы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Жес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Динамику движ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Взаимоотнош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Настроение, эмо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6. Опишите изображенные предметы, которые вы видите на переднем плане, на заднем плане, в центре изображения, слева, справа от цент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7. Что использует автор изображения (художник, фотограф) для воплощения своего замысла (крупный план, цвет, яркие детали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8. Что Вас больше всего привлекает в этом изображении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"/>
              </a:rPr>
              <a:t>9. Какие мысли, чувства, переживания вызывает она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3" descr="http://prodecide.com.ua/images/stories/Price/presentation.png"/>
          <p:cNvPicPr/>
          <p:nvPr/>
        </p:nvPicPr>
        <p:blipFill>
          <a:blip r:embed="rId1"/>
          <a:stretch/>
        </p:blipFill>
        <p:spPr>
          <a:xfrm>
            <a:off x="6732720" y="5084640"/>
            <a:ext cx="1903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214200" y="142920"/>
            <a:ext cx="892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1" descr="&amp;Kcy;&amp;acy;&amp;kcy; &amp;pcy;&amp;icy;&amp;shcy;&amp;ucy;&amp;tcy; &amp;tcy;&amp;iecy;&amp;zcy;&amp;icy;&amp;scy;&amp;ycy;"/>
          <p:cNvPicPr/>
          <p:nvPr/>
        </p:nvPicPr>
        <p:blipFill>
          <a:blip r:embed="rId1"/>
          <a:stretch/>
        </p:blipFill>
        <p:spPr>
          <a:xfrm>
            <a:off x="285840" y="0"/>
            <a:ext cx="1218960" cy="8650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1"/>
          <p:cNvSpPr/>
          <p:nvPr/>
        </p:nvSpPr>
        <p:spPr>
          <a:xfrm>
            <a:off x="1576440" y="47484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4140360" y="1197000"/>
            <a:ext cx="47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9e"/>
                </a:solidFill>
                <a:latin typeface="PragmaticaC-Bold"/>
              </a:rPr>
              <a:t>Возможности уче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9e"/>
                </a:solidFill>
                <a:latin typeface="PragmaticaC-Bold"/>
              </a:rPr>
              <a:t>Упражнение 339. </a:t>
            </a:r>
            <a:r>
              <a:rPr b="0" lang="ru-RU" sz="1800" spc="-1" strike="noStrike">
                <a:solidFill>
                  <a:srgbClr val="000000"/>
                </a:solidFill>
                <a:latin typeface="PragmaticaC"/>
              </a:rPr>
              <a:t>Есть картины, герои которых — различные вещи, фрукты, овощи, цветы и т. д. Такие картины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PragmaticaC-Bold"/>
              </a:rPr>
              <a:t>натюрмор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ragmaticaC"/>
              </a:rPr>
              <a:t>Рассмотрите картину Ф. Толстого «Цветы, фрукты, птица» (см. цвет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ragmaticaC"/>
              </a:rPr>
              <a:t>вклейку в конце учебника). Какие предметы изобразил художник? Обра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ragmaticaC"/>
              </a:rPr>
              <a:t>внимание на то, как художник расположил их на картине, какие краски использо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ragmaticaC"/>
              </a:rPr>
              <a:t>Ф. Толстой прославляет красоту мира вещей, предметов, которые окружают человека и украшают его жизнь. Постарайтесь раскрыть этот замы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ragmaticaC"/>
              </a:rPr>
              <a:t>художника в своём устном описании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3" descr=""/>
          <p:cNvPicPr/>
          <p:nvPr/>
        </p:nvPicPr>
        <p:blipFill>
          <a:blip r:embed="rId2"/>
          <a:stretch/>
        </p:blipFill>
        <p:spPr>
          <a:xfrm>
            <a:off x="108000" y="1184400"/>
            <a:ext cx="38163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85840" y="264420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285840" y="307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330120" y="1413000"/>
            <a:ext cx="842976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Arial"/>
              </a:rPr>
              <a:t>6 класс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имние забавы (на основе описания фотограф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 flipH="1">
            <a:off x="10692720" y="2088000"/>
            <a:ext cx="718920" cy="27648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0" y="346896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0" y="4397760"/>
            <a:ext cx="87152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https://ruso-oge.sdamgia.ru/get_file?id=14752"/>
          <p:cNvPicPr/>
          <p:nvPr/>
        </p:nvPicPr>
        <p:blipFill>
          <a:blip r:embed="rId1"/>
          <a:stretch/>
        </p:blipFill>
        <p:spPr>
          <a:xfrm>
            <a:off x="3608280" y="2557440"/>
            <a:ext cx="5195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2292480" y="520524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мейные традиции (на основе описания фотограф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https://ruso-oge.sdamgia.ru/get_file?id=14751"/>
          <p:cNvPicPr/>
          <p:nvPr/>
        </p:nvPicPr>
        <p:blipFill>
          <a:blip r:embed="rId1"/>
          <a:stretch/>
        </p:blipFill>
        <p:spPr>
          <a:xfrm>
            <a:off x="2292480" y="1268280"/>
            <a:ext cx="53038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1:45:06Z</dcterms:created>
  <dc:creator>Учитель</dc:creator>
  <dc:description/>
  <dc:language>en-US</dc:language>
  <cp:lastModifiedBy>ГосЗакупки</cp:lastModifiedBy>
  <dcterms:modified xsi:type="dcterms:W3CDTF">2025-01-21T04:26:46Z</dcterms:modified>
  <cp:revision>169</cp:revision>
  <dc:subject/>
  <dc:title>Кто не знает,  в какую гавань плыть,  для того не бывает попутного ветра.   Луций Анней Сенека</dc:title>
</cp:coreProperties>
</file>