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99F4-5913-4EF1-9F8C-2E13EDE956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8713-4290-4E26-BF46-A15E977F21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F044-7231-48D7-88D1-B9AC6B43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499-AE15-4887-9493-03356DD7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856-DD20-4194-9450-C3A13091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8A9E-E5D5-4835-AD10-41E29756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3B2D-E387-4240-92A0-D71763B8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FD34-7EC8-40D9-BCAB-964BCCBC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A2F-F490-4C01-BB57-2250136D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B08-EEA0-4ECF-B9AC-139EAAFD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588-BA12-4311-A067-E6AEBE53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A90-DFE0-44F3-A5C1-C390382B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35A-EB0B-445C-919E-2DEC6E7A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F7A7-F1D7-4ECE-8EA1-8AECE42A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eef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3B49-CE3B-476F-A482-720231C96B3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6545-6A27-45F7-8B1A-33D48F7C94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A6E7-9199-437E-A796-9104187FCD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84360" y="88236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6"/>
          <p:cNvSpPr/>
          <p:nvPr/>
        </p:nvSpPr>
        <p:spPr>
          <a:xfrm>
            <a:off x="1116000" y="549360"/>
            <a:ext cx="7056360" cy="3311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Анализ результатов  ЕГЭ </a:t>
            </a:r>
            <a:r>
              <a:rPr b="1" i="1" lang="en-US" sz="5400" spc="-1" strike="noStrike">
                <a:solidFill>
                  <a:srgbClr val="ffffff"/>
                </a:solidFill>
                <a:latin typeface="Calibri"/>
              </a:rPr>
              <a:t>202</a:t>
            </a: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4г. по математике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2268360" y="4221000"/>
            <a:ext cx="4753080" cy="194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Белова В.В., зав отд. КОЭР  Кинельский РЦ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Цыганова Э.В.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руководитель ОМО, учитель математики ГБОУ СОШ с.Георгие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статистические характеристики выполнения заданий КИМ в 2024 г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5684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считать достаточным овладение выпускниками округа алгоритмами нахождения точек максимума или минимума функции на интервале, а также задачи с прикладным содержанием, позволяющие использовать приобретённые знания и умения в практической деятельности и повседневной жизни, в группе набравших до 61 баллов. Среди задач геометрической линии следует констатировать высокий процент выполнения лишь простейшей планиметрической задачи. Невыполнение остальных говорит о недостаточности геометрических знаний у выпускников  округа, несформированности умения выполнять действия с геометрическими фигурами и пространственных представлений, неумении анализировать условие задачи, доказывать. Так же можно отметить, что все элементы содержания/умения применительно к выполнению заданий повышенного и высокого уровня сложности с развернутым ответом даже в группе от 61 до 80 баллов выполняют в среднем менее 30% участ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02F1-7775-4758-A063-C11968F74C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ОО, продемонстрировавших наиболее высокие результаты ЕГЭ по математике П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7AF5-36D5-4324-B47A-2B9A0E29B5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42920" y="1500120"/>
            <a:ext cx="88581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ОО, продемонстрировавших низкие результаты ЕГЭ по математике 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5D57-3F00-4005-9CE6-56F03AEF59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85840" y="1857240"/>
            <a:ext cx="8643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учителям мате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спешной сдачи ЕГЭ профильного уровня важно иметь глубокие базовые знания по материалу основной и средней школы, учиться доказывать геометрические утверждения и факты, развивать логику рассуждений, изучать способы и разнообразные приемы решений заданий как базового уровня, так и повышенного уровня слож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основой успешной сдачи экзамена по математике является качественное системное изучение математики, отсутствие пробелов в базовых математических знани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C463-5427-49EE-8E0C-EAAE426388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школам с низкими результатами ЕГ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м: ГБОУСОШ №1, 5, 7, 8, ГБОУ СОШ с.Чубовка, ГБОУ СОШ с. Малая Малышевк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курсы повышения квалификации на тему «Методика подготовки к итоговой аттестации по математике в форме ЕГЭ», семинары по обмену опытом «Методы решения задач повышенной трудности», «Методика работы с отстающими по подготовке к ЕГЭ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ять в работу систему наставничества (внутри школы и организовать пары (школы со стабильно хорошими результатами + школы с низкими результата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780D-69CF-4CD9-8AC2-D4D2BBCE1D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9E1B-8874-4E7C-B22C-9EC816E0F3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Прямоугольник 4" descr=""/>
          <p:cNvPicPr/>
          <p:nvPr/>
        </p:nvPicPr>
        <p:blipFill>
          <a:blip r:embed="rId1"/>
          <a:stretch/>
        </p:blipFill>
        <p:spPr>
          <a:xfrm>
            <a:off x="291960" y="1773360"/>
            <a:ext cx="87188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5E67-A3AF-4A73-8CE4-AE5CC0FB92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231840" y="115920"/>
            <a:ext cx="83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проведения ЕГЭ по математике П обучающихся, освоивших основные образовательные программы среднего общего образования Кинельского округа в 2024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2920" y="1628640"/>
          <a:ext cx="8786880" cy="2051280"/>
        </p:xfrm>
        <a:graphic>
          <a:graphicData uri="http://schemas.openxmlformats.org/drawingml/2006/table">
            <a:tbl>
              <a:tblPr/>
              <a:tblGrid>
                <a:gridCol w="4697280"/>
                <a:gridCol w="2044800"/>
                <a:gridCol w="2044800"/>
              </a:tblGrid>
              <a:tr h="1014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А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обучающихся, сдава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.Кин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.р.Кинель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нельский окр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55" name="Picture 18" descr=""/>
          <p:cNvPicPr/>
          <p:nvPr/>
        </p:nvPicPr>
        <p:blipFill>
          <a:blip r:embed="rId1"/>
          <a:stretch/>
        </p:blipFill>
        <p:spPr>
          <a:xfrm>
            <a:off x="214200" y="4143240"/>
            <a:ext cx="87868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результатов ЕГЭ по предмету за последние 3 год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69F9-259C-420D-ADC7-A26273DAD0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редний балл ЕГ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38CB-B6B1-437E-9C0B-CF76841C09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1268280"/>
          <a:ext cx="8064720" cy="4849920"/>
        </p:xfrm>
        <a:graphic>
          <a:graphicData uri="http://schemas.openxmlformats.org/drawingml/2006/table">
            <a:tbl>
              <a:tblPr/>
              <a:tblGrid>
                <a:gridCol w="936720"/>
                <a:gridCol w="1727280"/>
                <a:gridCol w="1058760"/>
                <a:gridCol w="1030320"/>
                <a:gridCol w="1224000"/>
                <a:gridCol w="2087640"/>
              </a:tblGrid>
              <a:tr h="65880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государственной (итоговой) аттестации по математике П на территории Кинельского управления в 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учас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m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бал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е 81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3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3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5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3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Ш №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60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городу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 (5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едний балл ЕГЭ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матика П на территории Кинельского округ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 3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277B-D1F5-40B4-ABBB-AB574A65D5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87156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редний балл ЕГ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A719-9358-4A1F-9DA0-A1BBE611C5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1052640"/>
          <a:ext cx="8208720" cy="4497120"/>
        </p:xfrm>
        <a:graphic>
          <a:graphicData uri="http://schemas.openxmlformats.org/drawingml/2006/table">
            <a:tbl>
              <a:tblPr/>
              <a:tblGrid>
                <a:gridCol w="1017360"/>
                <a:gridCol w="2400480"/>
                <a:gridCol w="946080"/>
                <a:gridCol w="1090800"/>
                <a:gridCol w="1017360"/>
                <a:gridCol w="1736640"/>
              </a:tblGrid>
              <a:tr h="74448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государственной (итоговой) аттестации по математике П на территории Кинельского управления в 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учас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m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бал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е 81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ргиевская СО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малыше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сомоль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к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рей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б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району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254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округу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редний балл ЕГ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8B64-A0F7-4300-B595-D24663D156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4000" y="476280"/>
          <a:ext cx="8462880" cy="5881680"/>
        </p:xfrm>
        <a:graphic>
          <a:graphicData uri="http://schemas.openxmlformats.org/drawingml/2006/table">
            <a:tbl>
              <a:tblPr/>
              <a:tblGrid>
                <a:gridCol w="1152360"/>
                <a:gridCol w="2717640"/>
                <a:gridCol w="1384560"/>
                <a:gridCol w="1604880"/>
                <a:gridCol w="1603440"/>
              </a:tblGrid>
              <a:tr h="75564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государственной (итоговой) аттестации по математике П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территории Кинельского округа за 3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-2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3 - 2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малыше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ргиевская СО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нель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сомоль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кае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дан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зае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к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рей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б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6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району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3012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округу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йтинг образовательных учреждений Кинельского управления  по результатам ЕГЭ математика П за 3 г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1313-8DE3-487A-8270-58C52858FD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142920" y="1300320"/>
            <a:ext cx="88581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статистические характеристики выполнения заданий КИМ в 2024 год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им перечень элементов содержания, умений и видов деятельности, усвоение которых всеми обучающимися округа можно счита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заданий базового уров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числения и пре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ть простейшие уравн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на нахождение вероятности в простейших ситуац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задания, которые выпускники округа выполнили более чем на 9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2AC6-5081-41A2-8847-A69D59C512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7:42:30Z</dcterms:created>
  <dc:creator>Olga</dc:creator>
  <dc:description/>
  <dc:language>en-US</dc:language>
  <cp:lastModifiedBy>user</cp:lastModifiedBy>
  <cp:lastPrinted>2022-08-07T04:20:23Z</cp:lastPrinted>
  <dcterms:modified xsi:type="dcterms:W3CDTF">2024-08-27T13:09:16Z</dcterms:modified>
  <cp:revision>739</cp:revision>
  <dc:subject/>
  <dc:title>Распределение заданий экзаменационной работы по частям работы</dc:title>
</cp:coreProperties>
</file>