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0C2F-B421-4493-9CEA-CB29BBC7A6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1CA5-9A22-45C2-9CB4-31B8AFA706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C83-7493-4B41-B260-72535DFB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6EF-0C59-4E4F-9457-54D4ABAD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7E5-0B52-4EAD-AECB-80831699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D1A-768F-49CF-85A7-80671796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82D-63B3-4F4A-BB92-C7A2BAFD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C19-A18C-4244-B81B-15F69AAE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9DF-C37E-4121-B07C-BC90DF64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6A8-CCF1-4B7D-B673-3C223954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35C-5FAD-4934-9227-7EFE14E7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FF1-263E-4E49-AA15-1024CB80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32C7-3CF5-4375-AFC8-4FD3DA2C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C3C-2FAB-44C0-97F7-480120E8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2555-C1D6-490F-A80E-ED9FA41FF14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32D4-6DEB-41B5-A2AF-67C3141920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93B3-7F00-4069-B5CD-4727C2F74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84360" y="88236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6"/>
          <p:cNvSpPr/>
          <p:nvPr/>
        </p:nvSpPr>
        <p:spPr>
          <a:xfrm>
            <a:off x="1116000" y="549360"/>
            <a:ext cx="7056360" cy="3311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Анализ результатов   ОГЭ по математике </a:t>
            </a:r>
            <a:r>
              <a:rPr b="1" i="1" lang="en-US" sz="5400" spc="-1" strike="noStrike">
                <a:solidFill>
                  <a:srgbClr val="ffffff"/>
                </a:solidFill>
                <a:latin typeface="Calibri"/>
              </a:rPr>
              <a:t>202</a:t>
            </a: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4г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268360" y="4221000"/>
            <a:ext cx="4753080" cy="194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Белова В.В., зав отд. КОЭР  Кинельский Р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Цыганова Э.В.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руководитель ОМО, учитель математики ГБОУ СОШ с.Георгие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ОО, продемонстрировавших наиболее изкие результаты ОГЭ по матема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B460-B8F1-41E8-9E72-23DA7CC80C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татистические характеристики выполнения заданий КИМ в 2024 год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2FB4-9134-4555-B2BC-425C99B99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229600" cy="25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428760" y="3929040"/>
            <a:ext cx="82864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татистические характеристики выполнения заданий КИМ в 2024 г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5CD6-374A-4FD1-B0D9-139AED14E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86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татистические характеристики выполнения заданий КИМ в 2024 г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 50% выполнения имеют задания 3, 4, при решении которого необходимо уметь использовать приобретённые знания и умения в практической деятельности и повседневной жизни. Так же низкий результат был показан при выполнении заданий 16,17 – умение выполнять действия с геометрическими фигурами, координатами и векторами и 19 - умение распознавать истинные и ложные высказыв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повышенного и высокого уровня 20 - 25 имеют процент выполнения ниже 15%. При анализе выполнения отдельных заданий КИМ наиболее успешно освоенными можно считать следующие ум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олнять вычисления и преобразования (95,2%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 усвоенными из заданий повышенного и высокого уровней сложности оказались ум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олнять преобразования алгебраических выражений, решать уравнения, неравенства и их системы, строить и читать графики функций, строить и исследовать простейшие математические модели (задание повышенного уровня - 13,2%, задание высокого уровня сложности – 5,9%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- проводить доказательные рассуждения при решении задач, оценивать логическую правильность рассуждений, распознавать ошибочные заключения (14,9%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- выполнять действия с геометрическими фигурами, координатами и векторами (0,1%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EBA7-B3F4-4437-9612-077A2F8BA5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учител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организации образовательного процесса по подготовке к основному государственному экзамену необходимо руководствоваться нормативными документами, регулирующими проведение итоговой аттестации по математике, и методическими материалами, которые находятся на сайтах ФГБНУ «ФИПИ» (www.fipi.ru) и Министерства просвещения Российской Федера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робно проанализировать результаты ОГЭ 2024 года на заседаниях методических объединений каждого образовательного учреждения для устранения выявленных проблем и повышения качества обучения математике: проанализировать результаты, типичные ошибки, допущенные при выполнении заданий, выявить динамику выполнения заданий с развернутым ответом, выделить темы курса математики, при использовании материала которых было допущено наибольшее количество ошибок и уделить этим темам особое внимание при подготовке к итоговой аттестации в будущем учебном год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учител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ять больше времени на уроках повторения текстовым задачам, использованию формул, предложенных в справочном разделе, и вычислению значений выражений; обратить внимание учащихся на необходимость внимательного прочтения заданий и инструкций по их выполнению, оценивать полученный ответ с точки зрения здравого смысла, сопоставлять условие задачи с реальной жизнь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одимо больше внимания уделять практике устных ответов, развёрнутых математических обоснований, умению ясно и последовательно записывать решение задачи, уделять больше внимания на уроках геометрии построению чертежа по условию задачи, построению таких логических цепочек, как «утверждение – обоснование». На этапе обобщения и систематизации знаний по геометрии особое внимание уделить повторению свойств геометрических фигур, выявлению их признаков и существенных свойств. При решении задач на доказательство необходимо обучать учащихся выделению этапов доказательства и обоснованию выво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1E22-3E13-473F-B4B2-D368737E16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школам с низкими результатами ОГЭ по математ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м:  ГБОУ СОШ №10, ГБОУ СОШ с.Алакаевска, ГБОУ СОШ с. Богдановска, ГБОУ СОШ с. Домаш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курсы повышения квалификации на тему «Методика подготовки к итоговой аттестации по математике в форме ОГЭ», семинары по обмену опытом «Методы решения задач повышенной трудности», «Методика работы с отстающими по подготовке к ОГЭ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ять в работу систему наставничества (внутри школы и организовать пары (школы со стабильно хорошими результатами + школы с низкими результата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школам округа системно вести работу по отработке системы повторения, обобщения и систематизации учебного материала в целях подготовки к ОГЭ, уделяя особое внимание практико - ориентированным и геометрическим задач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D303-9613-43F2-863D-F7B1945F9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"/>
          <p:cNvSpPr/>
          <p:nvPr/>
        </p:nvSpPr>
        <p:spPr>
          <a:xfrm>
            <a:off x="468360" y="115920"/>
            <a:ext cx="79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проведения ОГЭ по математ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льского округа в  2024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4286160"/>
          <a:ext cx="7848720" cy="2000520"/>
        </p:xfrm>
        <a:graphic>
          <a:graphicData uri="http://schemas.openxmlformats.org/drawingml/2006/table">
            <a:tbl>
              <a:tblPr/>
              <a:tblGrid>
                <a:gridCol w="1851120"/>
                <a:gridCol w="1925640"/>
                <a:gridCol w="2073240"/>
                <a:gridCol w="1998720"/>
              </a:tblGrid>
              <a:tr h="1182600">
                <a:tc>
                  <a:txBody>
                    <a:bodyPr lIns="9360" rIns="9360" tIns="9360" bIns="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Доля участников получивших 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Доля участников получивших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Доля участников получивших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Доля участников получивших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81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7200" y="1600200"/>
          <a:ext cx="7848720" cy="2254320"/>
        </p:xfrm>
        <a:graphic>
          <a:graphicData uri="http://schemas.openxmlformats.org/drawingml/2006/table">
            <a:tbl>
              <a:tblPr/>
              <a:tblGrid>
                <a:gridCol w="1328760"/>
                <a:gridCol w="1290600"/>
                <a:gridCol w="1407960"/>
                <a:gridCol w="1273320"/>
                <a:gridCol w="1274760"/>
                <a:gridCol w="1273320"/>
              </a:tblGrid>
              <a:tr h="16556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ичество обуча-ющихся, сдававших 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балл по пятибальной шка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преодолели минималь -ную границ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вень обучен 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чество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5986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балл ОГЭ по  5-балльной шкал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3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741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21/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22/2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23/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E910-B011-4B5D-AB3B-A22790F25B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00040" y="2643120"/>
            <a:ext cx="8215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ГЭ по математике  на территор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льского округа в 2024год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C5E6-1E4C-4404-BD37-CB9E76F022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1268280"/>
          <a:ext cx="8064720" cy="5156280"/>
        </p:xfrm>
        <a:graphic>
          <a:graphicData uri="http://schemas.openxmlformats.org/drawingml/2006/table">
            <a:tbl>
              <a:tblPr/>
              <a:tblGrid>
                <a:gridCol w="936720"/>
                <a:gridCol w="1727280"/>
                <a:gridCol w="1058760"/>
                <a:gridCol w="1389240"/>
                <a:gridCol w="1152360"/>
                <a:gridCol w="1800360"/>
              </a:tblGrid>
              <a:tr h="21600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емость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 (87,3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9 (41,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 (3,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(83,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 (55,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 (3,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(78,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 (33,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 (3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(82,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7 (48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 (3,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(8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5 (42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 (3,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(98,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6 (61,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 (3,7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(80,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4 (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(3,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 (92,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4 (46,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 (3,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(79,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6 (37,3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 (3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(98,4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5 (54,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(3,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городу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2 (86,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9 (47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(3,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годовых и экзаменационных отмето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атематик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88E4-CA08-478E-9C5E-A301A37E1B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87156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ГЭ по математике  на территор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льского округа в  2024 год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A0E0-F028-48E0-BD4B-AC976BA36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125360"/>
          <a:ext cx="8137440" cy="5301000"/>
        </p:xfrm>
        <a:graphic>
          <a:graphicData uri="http://schemas.openxmlformats.org/drawingml/2006/table">
            <a:tbl>
              <a:tblPr/>
              <a:tblGrid>
                <a:gridCol w="1008000"/>
                <a:gridCol w="2233440"/>
                <a:gridCol w="1079640"/>
                <a:gridCol w="1295280"/>
                <a:gridCol w="1081080"/>
                <a:gridCol w="1440000"/>
              </a:tblGrid>
              <a:tr h="21348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емость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бр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100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(7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 (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малы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(88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 (35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 (3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(63,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(27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2,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самар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 (9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5 (58,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 (3,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ргиевская СО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(87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1 (43,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 (3,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нел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 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8 (94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 (4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сомол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(96,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4 (58,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(3,7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ка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(8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4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 (3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дан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 (81,8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 (5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 (3,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за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(7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12,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к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(62,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9 (3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 (2,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сарбай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(76,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 (11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 (2,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 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6 (7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 (4,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рей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(86,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7 (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 (3,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б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(92,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 (57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 (3,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7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ров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(66,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 (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 (2,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7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рье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(5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3,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7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алышев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 (7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 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1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району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 (86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1 (5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 (3,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0996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округу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8 (86,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8 (48,7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(3,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годовых и экзаменационных отмето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атема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9F67-39EB-4283-BD78-EF0CFCAF35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9001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тинг школ Кинельского округа 2024го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5AAF-ED82-4173-BD18-F893D248D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1014480"/>
            <a:ext cx="91440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ОО, продемонстрировавших наиболее высокие результаты ОГЭ по матема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84F3-4E2A-467C-95A9-B875C9FC39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7:42:30Z</dcterms:created>
  <dc:creator>Olga</dc:creator>
  <dc:description/>
  <dc:language>en-US</dc:language>
  <cp:lastModifiedBy>user</cp:lastModifiedBy>
  <cp:lastPrinted>2023-07-27T08:28:26Z</cp:lastPrinted>
  <dcterms:modified xsi:type="dcterms:W3CDTF">2024-08-27T09:40:24Z</dcterms:modified>
  <cp:revision>789</cp:revision>
  <dc:subject/>
  <dc:title>Распределение заданий экзаменационной работы по частям работы</dc:title>
</cp:coreProperties>
</file>