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4F10-11C9-4753-A788-F231118315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CE87F6A5-3C3D-4DD1-BA50-DC5BAE9B91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04DFD469-5BC4-4214-A05A-27BA21778C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7A17579D-5CE0-4E4C-98B8-E69F859B0D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87CE-4059-4692-809A-361A9139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B4E1-999D-4265-AD53-FB81EF16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28982-2D31-4AD2-872D-8602B1C8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50C5D-0645-40FB-932A-A366DD1D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ABF6F-27EB-413C-9AAE-E9C04509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716B0-AC66-406B-801E-25007FA1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2B679-7713-475D-B3E2-8FEB81F8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F8535-4189-493F-BEF2-382E7D14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07FB5-32C2-4834-B57C-C2E2C472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60D55-265B-4704-9EB5-E4E7BE1A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67DA8-4AB3-40F4-ADC9-D37D1A55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A4EE5-4B7D-41E4-9C03-E468FF4B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FCE3-AC10-4CF9-B25B-921F5E4E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A4B32-505B-4BE8-B645-B5A17478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2FB87-3313-410B-88C3-7BB9323E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0E61D-A2D6-4011-9752-EAF4550B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EDF8F-5790-4142-BEFF-8DB625A7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E7DB6-96E4-4D23-B641-9457F03A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DFBEC-4528-419C-B576-96B362E9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199F1-72D6-4A00-9BFF-9750573C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260C2-F031-450E-BBB8-7D720D1C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3884A-9CEC-4DAB-B484-CEEF17F9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C6F4E-A9E5-48AC-A51C-ED310CA3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C8EF-6383-4DB8-A093-D9BDEE59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65E2F-C00D-4409-BA1D-8C088983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A64B6-F03A-403B-90A3-A93AD7C9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7CAA8-9CC1-455B-8388-66ABB53E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20B6C-7773-4E60-80B6-5F1BD736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8477B-60B4-4323-9A00-E2339183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D0EC9-E93D-44EE-844C-685ED14C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DD5CE-3A87-4E16-95B3-1CAD0AAA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BB6DC-0001-4C52-874A-C27C18D5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C283B-B99C-4978-910C-01B55C2D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A2807-6E02-44DF-8CF0-242DEB9B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48ED-55EE-481A-8A0C-0DE5011A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0667C-435D-484E-AD65-3CF3968A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4FE71-3838-4706-AE49-AF6C6534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4979B-B9A0-4C33-8D89-A771ECA1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31B5D-1199-486B-AC8F-00F3D3DA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2DB86-7C80-4993-85F1-8C2CA204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33FB5-C99B-4E46-BAA0-0D3E1C42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E4BD0-D102-46D6-A250-6B51BC00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7E8ED-1A38-4E23-A12F-3E1DBEDD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973DD-1906-4B3A-A243-F82BF661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404FA-A4A2-410B-A659-9963FC2E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18AD-67E8-44EE-B784-30741DB7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28DD3-DDAA-47AA-9592-034A6A54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D7D83-8F7E-4382-93BD-F3AA2DD5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E704B-161D-40B0-ACCD-063B09CC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E03F7-FAB4-40A3-BD66-0B392D51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2C878-8A5C-4E4D-88F7-C5CE7CD1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7032C2-89C9-4BF1-B14D-E45DA756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CBFC02-2D2F-42B6-80B8-B0EBB655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C98ABB-C83A-44D0-AD35-76E494CC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97982F-A2F4-46F9-BCA4-CE7F1EDC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D1FC77-2E09-40A1-805F-0AF3585F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4632-661D-4960-ADE7-345C9508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EB2986-1F26-487D-B6DE-D4066F69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9A53FC-026A-46F8-90B2-C657A7DA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9655C-0E3B-478D-A150-8E1C3668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0A643E-8481-4F6A-A49F-4D5B42E7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72EFA4-44A3-427A-92DD-EE4397B8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2759DC-90C4-4A94-A690-C1B5218B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0AF976-6B24-467C-A3DF-66C4B16C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486B-4EE0-46A3-8BCD-B0643845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2BB3-B4DD-4EF1-9AB4-62A9A648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BD38-5664-4C59-9159-43FD14C5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4233-5D1B-44AB-8D7C-30619FB1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38A3-2BC9-420C-977B-2843013D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DAD9-0719-4977-93FC-BE963FB2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2374-2C9C-4E92-8534-0AA998FF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7EC3-D64C-473A-9B70-E2B4032F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6D63-392D-4A26-A56A-AE2B00A9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521D-772B-46D6-914D-C0CC957C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32C3C-6F4B-4F70-A192-6CC13685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F2608-2181-4E7D-91F6-DA47FCA1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CF085-BCA6-46ED-82F7-82A38C99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24324-2115-4D99-B16E-EBCC487B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F70E2-C1DA-442E-9FF0-68DEEC72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4371-19DE-44DD-A0ED-5743D527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E7EE4-C39F-4FBB-9F0C-9249E89A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DDA0E-7C3C-4A28-AE6F-F6C6CC3C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CC448-C6A7-4722-8B5F-469AB172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6FC41-38AF-4F32-928F-2EA6E684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CD0CD-5BA1-49E4-BACD-4726AA90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8615D-7E28-4588-8C3F-6B08F497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18C51-4B41-4C06-9B09-7684B760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F6DBB-41F9-4C14-9A2E-38148039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16400-8452-43F4-A206-F38FCB83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A4E3B-92B1-47AF-BA9B-9A678ED1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0295-3C73-4F2F-A380-7F8C8C13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B2080-B430-4BC5-9DF4-145F8459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B7350-BE29-48E1-8156-55B117EE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D8663-8A87-4409-87B2-1D3E949B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7265C-11C6-4A7A-A065-4671804B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A3AA7-220D-401C-AA1D-329E5CD0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FAADA-4C55-49FF-B974-B1ADCE97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4C1E4-F7C8-4C86-B9A3-943D871C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E82BE-69A6-4429-A1B2-3AFA5441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B73EA-2D92-4A92-AC00-DC9BDB6C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ECAF2-C4EF-4D1D-88A8-1D039F0B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7393-25EC-40E5-ACA0-FD77E71D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FF85E-B994-43EA-86E5-2CA56474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BC9CF-DE2F-4F2E-8468-95F5284C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84ADF-AA1B-4262-A3AB-13EF1587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CAF4B-CDCC-4537-AB1A-503819DF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3DD9E-7308-475E-8E0A-0268F4D9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03298-D33F-4759-A6FC-326A46EF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D425C-D300-4A61-90DA-AEC26C84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82AA6-3E22-4CC4-8EE4-33512FC8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D6A61-AA7E-42A0-BFB7-70A89AAE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97BA6-F5C8-4A0C-B389-F5AE3AC0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79FB-66B9-45F5-AE22-373E951C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6C6CD-2082-429B-A146-C05E7DE0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B4951-971D-4758-B251-4C7210AC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26298-405C-4A59-887E-13DCCF27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C1E5D-2902-4BE1-95E8-95166C86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09BCA-8E7F-4DC2-837C-0943A5C3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CF945-AA33-4864-A2FB-36AEEDC8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AC78E-0EE1-4762-9FC9-72A431A3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CE2B0-D5DD-46F5-ABD0-99718521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B80C2-E536-406C-AC92-D8E69B13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D0AE8-734E-44C9-9874-81AF4D43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9663-530E-45CA-8AF9-2516039A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9DFAD-3B87-4F4A-A7FF-54006CF0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9246A-B41E-4098-B771-EB1F2052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8ED58-BB3E-4D33-9CBD-1BF46139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A2A90-064B-48E1-A911-675E7A8C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3B5A2-90EE-400B-BF51-4F03641D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33947-7628-4E37-A2F4-D5A690A9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44BE5-E061-4B29-8806-D955E1E9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2454D-5974-4D96-AB64-C4B33759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90DBB-3167-4474-95A1-87DCB752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74941-F6EC-4661-9D6F-74F32A32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856C-5E1F-4965-B949-D283696F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470C5-812C-4D86-BB09-AD0152BB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27077-E3F0-4902-B8EC-4D869D73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ACF49-6CA4-4412-8F70-AC139F71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B8CBC-BD9D-4F7D-AEF4-3A156BE3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5FF35-D384-443B-9952-BEB2F28C3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2D1A4-0F0D-4516-9259-CAD8E1E3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1EBF3-72B6-4B8B-A831-0EE010C6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82A65-7D47-4B08-9F49-E29E5606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9E0C4-903D-4768-98CA-B6C84DFD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AF935-C269-40F2-9CD4-0F5CFDB5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4191-F45B-4D28-8888-712457A1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0CDCE-C8B2-4DFD-B77D-0FCE2253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291A3-F6E5-4A2C-A6E3-D6AEBC57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835E1-E886-42D4-AE6B-71781DFF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BCD5F-DFF1-4BF7-BA57-75218D86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F2F39-135F-472C-8570-9AB12D92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BA6B0-905D-48CD-BF4C-F683ADEE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1984D-865E-4BB4-9DB7-D830685C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48774-E3EA-474D-A878-DA689EDE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FC06C-0506-4593-9F88-86673F82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2E8E6-D07E-43D5-828E-B139A95F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E938-6EE0-4318-B8D3-42D409E137D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97D7-8E6D-498D-B715-EFF52B5400C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4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1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2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3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7AE1-4DCD-460B-A944-2DE4C4FE00DE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CE16-167C-4489-BD3A-4CCEF9CD8B0A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53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7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8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9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EA4A-5733-4FC4-9354-3C5FC1974320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5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7AEB-D959-4856-AECF-77D967A72D27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9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4A04-3C8D-4422-B4C5-A118DBAA5E8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4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1D18-1565-4B80-AA71-5211C63D1BA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FA23-4C7F-4CD4-A0BE-EF978B42609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3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9DDF-A232-4EFE-8F03-30DC5EBE72B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2523-4F3F-4343-86C0-F39AD0710C0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18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64D3-31D8-4381-911F-FDE85310228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6DDE-1657-487F-926F-C3A90AC1E1D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28144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7c4b3b"/>
              </a:solidFill>
              <a:latin typeface="Times New Roman"/>
              <a:ea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785880" y="1356840"/>
            <a:ext cx="7858080" cy="528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spcBef>
                <a:spcPts val="326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17529"/>
                </a:solidFill>
                <a:latin typeface="Franklin Gothic Book"/>
              </a:rPr>
              <a:t>Анализ работы окружной системы дополнительного образования детей за 2023/24 учебный год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17529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c17529"/>
                </a:solidFill>
                <a:latin typeface="Franklin Gothic Book"/>
              </a:rPr>
              <a:t>Ключевые направления работы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17529"/>
                </a:solidFill>
                <a:latin typeface="Franklin Gothic Book"/>
              </a:rPr>
              <a:t>на 2024/25 учебный год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17529"/>
                </a:solidFill>
                <a:latin typeface="Franklin Gothic Book"/>
              </a:rPr>
              <a:t>врио руководителя ОМО,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17529"/>
                </a:solidFill>
                <a:latin typeface="Franklin Gothic Book"/>
              </a:rPr>
              <a:t>старший методист СП ДОД ЦДТ </a:t>
            </a:r>
            <a:br>
              <a:rPr sz="1300"/>
            </a:br>
            <a:r>
              <a:rPr b="1" lang="ru-RU" sz="1300" spc="-1" strike="noStrike">
                <a:solidFill>
                  <a:srgbClr val="c17529"/>
                </a:solidFill>
                <a:latin typeface="Franklin Gothic Book"/>
              </a:rPr>
              <a:t>ГБОУ СОШ пос.Кинельский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17529"/>
                </a:solidFill>
                <a:latin typeface="Franklin Gothic Book"/>
              </a:rPr>
              <a:t>м.р.Кинельский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17529"/>
                </a:solidFill>
                <a:latin typeface="Franklin Gothic Book"/>
              </a:rPr>
              <a:t>Давлетова М.С. </a:t>
            </a:r>
            <a:br>
              <a:rPr sz="1300"/>
            </a:b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202</a:t>
            </a:r>
            <a:r>
              <a:rPr b="1" lang="ru-RU" sz="17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4</a:t>
            </a:r>
            <a:r>
              <a:rPr b="1" lang="en-US" sz="17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год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4"/>
          <p:cNvSpPr/>
          <p:nvPr/>
        </p:nvSpPr>
        <p:spPr>
          <a:xfrm>
            <a:off x="539640" y="54936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3"/>
          <p:cNvSpPr/>
          <p:nvPr/>
        </p:nvSpPr>
        <p:spPr>
          <a:xfrm>
            <a:off x="857160" y="2857680"/>
            <a:ext cx="7572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44e"/>
                </a:solidFill>
                <a:latin typeface="Arial"/>
              </a:rPr>
              <a:t>Выявление и развитие способностей  и талантов дет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44e"/>
                </a:solidFill>
                <a:latin typeface="Arial"/>
              </a:rPr>
              <a:t>в том числе у детей с особыми образовательными потребност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AutoShape 2"/>
          <p:cNvSpPr/>
          <p:nvPr/>
        </p:nvSpPr>
        <p:spPr>
          <a:xfrm>
            <a:off x="179280" y="0"/>
            <a:ext cx="8964720" cy="8571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fbe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644e"/>
                </a:solidFill>
                <a:latin typeface="Arial"/>
                <a:ea typeface="Times New Roman"/>
              </a:rPr>
              <a:t>ОХВАТ ДЕТЕЙ С ОВЗ И ГРУППЫ РИС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19"/>
          <p:cNvSpPr/>
          <p:nvPr/>
        </p:nvSpPr>
        <p:spPr>
          <a:xfrm>
            <a:off x="0" y="6381720"/>
            <a:ext cx="9144000" cy="47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21"/>
          <p:cNvSpPr/>
          <p:nvPr/>
        </p:nvSpPr>
        <p:spPr>
          <a:xfrm>
            <a:off x="285840" y="164304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0" y="1000080"/>
          <a:ext cx="9144000" cy="5715000"/>
        </p:xfrm>
        <a:graphic>
          <a:graphicData uri="http://schemas.openxmlformats.org/drawingml/2006/table">
            <a:tbl>
              <a:tblPr/>
              <a:tblGrid>
                <a:gridCol w="5097600"/>
                <a:gridCol w="1390680"/>
                <a:gridCol w="1042920"/>
                <a:gridCol w="1612800"/>
              </a:tblGrid>
              <a:tr h="69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ПД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Группа р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55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СП «Вдохновени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55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СП «Гармон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55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СП «Вундеркинд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55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СП ЦД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55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ДЮСШ г. Кин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55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ДЮСШ п. Комсомоль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55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ДШИ с. Дома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55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ДШИ с. Красносамар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55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4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AutoShape 2"/>
          <p:cNvSpPr/>
          <p:nvPr/>
        </p:nvSpPr>
        <p:spPr>
          <a:xfrm>
            <a:off x="0" y="0"/>
            <a:ext cx="8964720" cy="118908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fbe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644e"/>
                </a:solidFill>
                <a:latin typeface="Arial"/>
                <a:ea typeface="Times New Roman"/>
              </a:rPr>
              <a:t>ДОСТИЖЕНИЯ ОБУЧАЮЩИХ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оугольник 5"/>
          <p:cNvSpPr/>
          <p:nvPr/>
        </p:nvSpPr>
        <p:spPr>
          <a:xfrm>
            <a:off x="2286000" y="116676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0" y="785880"/>
          <a:ext cx="9144000" cy="6154560"/>
        </p:xfrm>
        <a:graphic>
          <a:graphicData uri="http://schemas.openxmlformats.org/drawingml/2006/table">
            <a:tbl>
              <a:tblPr/>
              <a:tblGrid>
                <a:gridCol w="2467080"/>
                <a:gridCol w="1523880"/>
                <a:gridCol w="1233360"/>
                <a:gridCol w="1235160"/>
                <a:gridCol w="1233720"/>
                <a:gridCol w="1450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ежду-народ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осс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бласт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круж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то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</a:tr>
              <a:tr h="67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 ДОД «Вдохновени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 «Вундеркинд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</a:tr>
              <a:tr h="47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П «Гармон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П ДОД ЦД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3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</a:tr>
              <a:tr h="47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ЮСШ г. Кин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</a:tr>
              <a:tr h="582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ЮСШ 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</a:tr>
              <a:tr h="509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ШИ с. Дома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3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ШИ с. Красносамар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ерспект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</a:tr>
              <a:tr h="535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3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3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796c"/>
                    </a:solidFill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Рисунок 4" descr="BOOKSF копия.gif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4" name="Text Box 4"/>
          <p:cNvSpPr/>
          <p:nvPr/>
        </p:nvSpPr>
        <p:spPr>
          <a:xfrm>
            <a:off x="167148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1285920" y="1500120"/>
            <a:ext cx="6480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рямоугольник 5"/>
          <p:cNvSpPr/>
          <p:nvPr/>
        </p:nvSpPr>
        <p:spPr>
          <a:xfrm>
            <a:off x="4357800" y="3244680"/>
            <a:ext cx="17784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714240" y="1214280"/>
          <a:ext cx="7715520" cy="4373640"/>
        </p:xfrm>
        <a:graphic>
          <a:graphicData uri="http://schemas.openxmlformats.org/drawingml/2006/table">
            <a:tbl>
              <a:tblPr/>
              <a:tblGrid>
                <a:gridCol w="1897200"/>
                <a:gridCol w="987480"/>
                <a:gridCol w="985680"/>
                <a:gridCol w="986040"/>
                <a:gridCol w="987480"/>
                <a:gridCol w="985680"/>
                <a:gridCol w="885960"/>
              </a:tblGrid>
              <a:tr h="722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ПГОДЛГОЛг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еждународ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оссий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бласт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2021-2022 уч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,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,5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4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,6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2022-2023 уч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,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2023-2024 уч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2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3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8" name="Прямоугольник 1"/>
          <p:cNvSpPr/>
          <p:nvPr/>
        </p:nvSpPr>
        <p:spPr>
          <a:xfrm>
            <a:off x="857160" y="357120"/>
            <a:ext cx="7572600" cy="825480"/>
          </a:xfrm>
          <a:prstGeom prst="rect">
            <a:avLst/>
          </a:prstGeom>
          <a:solidFill>
            <a:srgbClr val="aa79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стижения обучающих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авнитель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Рисунок 4" descr="BOOKSF копия.gif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30" name="Text Box 4"/>
          <p:cNvSpPr/>
          <p:nvPr/>
        </p:nvSpPr>
        <p:spPr>
          <a:xfrm>
            <a:off x="167148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6"/>
          <p:cNvSpPr/>
          <p:nvPr/>
        </p:nvSpPr>
        <p:spPr>
          <a:xfrm>
            <a:off x="1285920" y="1500120"/>
            <a:ext cx="6480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357120" y="1397160"/>
          <a:ext cx="8143920" cy="5103720"/>
        </p:xfrm>
        <a:graphic>
          <a:graphicData uri="http://schemas.openxmlformats.org/drawingml/2006/table">
            <a:tbl>
              <a:tblPr/>
              <a:tblGrid>
                <a:gridCol w="2197080"/>
                <a:gridCol w="889200"/>
                <a:gridCol w="887400"/>
                <a:gridCol w="1025280"/>
                <a:gridCol w="1162080"/>
                <a:gridCol w="1121040"/>
                <a:gridCol w="861840"/>
              </a:tblGrid>
              <a:tr h="198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С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М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КМ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1 спорт. раз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2 и 3 спорт. раз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Юношеский разряд (1-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Итог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502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ДЮСШ го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466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ДЮСШ рай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544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«Вундеркинд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«Вдохновени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8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ИТО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633" name="Прямоугольник 1"/>
          <p:cNvSpPr/>
          <p:nvPr/>
        </p:nvSpPr>
        <p:spPr>
          <a:xfrm>
            <a:off x="571680" y="285840"/>
            <a:ext cx="7715160" cy="825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44e"/>
                </a:solidFill>
                <a:latin typeface="Arial"/>
              </a:rPr>
              <a:t>Спортивные достижения обучающих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44e"/>
                </a:solidFill>
                <a:latin typeface="Arial"/>
              </a:rPr>
              <a:t>в 2023-24г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Рисунок 4" descr="BOOKSF копия.gif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35" name="Text Box 4"/>
          <p:cNvSpPr/>
          <p:nvPr/>
        </p:nvSpPr>
        <p:spPr>
          <a:xfrm>
            <a:off x="167148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6"/>
          <p:cNvSpPr/>
          <p:nvPr/>
        </p:nvSpPr>
        <p:spPr>
          <a:xfrm>
            <a:off x="1285920" y="1500120"/>
            <a:ext cx="648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285840" y="1397160"/>
          <a:ext cx="8286840" cy="5246640"/>
        </p:xfrm>
        <a:graphic>
          <a:graphicData uri="http://schemas.openxmlformats.org/drawingml/2006/table">
            <a:tbl>
              <a:tblPr/>
              <a:tblGrid>
                <a:gridCol w="2271600"/>
                <a:gridCol w="730440"/>
                <a:gridCol w="1541160"/>
                <a:gridCol w="1217880"/>
                <a:gridCol w="1460520"/>
                <a:gridCol w="1065240"/>
              </a:tblGrid>
              <a:tr h="110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М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КМ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1 спорт. раз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2 и 3 сп. раз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Юн. раз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2021-20202 уч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105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2022-2023 уч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2023-2024 уч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Всего за 3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638" name="Прямоугольник 6"/>
          <p:cNvSpPr/>
          <p:nvPr/>
        </p:nvSpPr>
        <p:spPr>
          <a:xfrm>
            <a:off x="714240" y="428760"/>
            <a:ext cx="75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44e"/>
                </a:solidFill>
                <a:latin typeface="Arial"/>
              </a:rPr>
              <a:t>Спортивные достижения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44e"/>
                </a:solidFill>
                <a:latin typeface="Arial"/>
              </a:rPr>
              <a:t>Сравнитель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4"/>
          <p:cNvSpPr/>
          <p:nvPr/>
        </p:nvSpPr>
        <p:spPr>
          <a:xfrm>
            <a:off x="167148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6"/>
          <p:cNvSpPr/>
          <p:nvPr/>
        </p:nvSpPr>
        <p:spPr>
          <a:xfrm>
            <a:off x="1285920" y="1500120"/>
            <a:ext cx="6480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оугольник 5"/>
          <p:cNvSpPr/>
          <p:nvPr/>
        </p:nvSpPr>
        <p:spPr>
          <a:xfrm>
            <a:off x="2286000" y="282888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644e"/>
                </a:solidFill>
                <a:latin typeface="Arial"/>
              </a:rPr>
              <a:t>Развитие кадровог</a:t>
            </a:r>
            <a:r>
              <a:rPr b="1" i="1" lang="ru-RU" sz="4000" spc="-1" strike="noStrike">
                <a:solidFill>
                  <a:srgbClr val="a5644e"/>
                </a:solidFill>
                <a:latin typeface="Arial"/>
              </a:rPr>
              <a:t>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644e"/>
                </a:solidFill>
                <a:latin typeface="Arial"/>
              </a:rPr>
              <a:t>о потенци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Рисунок 4" descr="BOOKSF копия.gif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43" name="Text Box 4"/>
          <p:cNvSpPr/>
          <p:nvPr/>
        </p:nvSpPr>
        <p:spPr>
          <a:xfrm>
            <a:off x="167148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"/>
          <p:cNvSpPr/>
          <p:nvPr/>
        </p:nvSpPr>
        <p:spPr>
          <a:xfrm>
            <a:off x="1285920" y="1500120"/>
            <a:ext cx="6480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рямоугольник 5"/>
          <p:cNvSpPr/>
          <p:nvPr/>
        </p:nvSpPr>
        <p:spPr>
          <a:xfrm>
            <a:off x="714240" y="1285920"/>
            <a:ext cx="7572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644e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a5644e"/>
                </a:solidFill>
                <a:latin typeface="Arial Black"/>
              </a:rPr>
              <a:t>Стимулирование инновационных процессов, в том числе  через участие педагогов дополнительного образования в конкурсах профессионального мастерства, оказание методической помощ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644e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a5644e"/>
                </a:solidFill>
                <a:latin typeface="Arial Black"/>
              </a:rPr>
              <a:t>Совершенствование методического сопровож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644e"/>
                </a:solidFill>
                <a:latin typeface="Arial Black"/>
              </a:rPr>
              <a:t>для повышения уровня профессиональной компетентности педагогических рабо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644e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a5644e"/>
                </a:solidFill>
                <a:latin typeface="Arial Black"/>
              </a:rPr>
              <a:t>Формирование регионального банка лучших практик системы дополнительного образования в целях распространения опыта реализации дополнительных общеобразовательных програм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644e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a5644e"/>
                </a:solidFill>
                <a:latin typeface="Arial Black"/>
              </a:rPr>
              <a:t>Совершенствование  института  наставнич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оугольник 6"/>
          <p:cNvSpPr/>
          <p:nvPr/>
        </p:nvSpPr>
        <p:spPr>
          <a:xfrm flipV="1">
            <a:off x="2428920" y="430632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оугольник 7"/>
          <p:cNvSpPr/>
          <p:nvPr/>
        </p:nvSpPr>
        <p:spPr>
          <a:xfrm flipV="1" rot="10800000">
            <a:off x="3000240" y="258120"/>
            <a:ext cx="35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5644e"/>
                </a:solidFill>
                <a:latin typeface="Arial Black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Рисунок 4" descr="BOOKSF копия.gif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49" name="Text Box 4"/>
          <p:cNvSpPr/>
          <p:nvPr/>
        </p:nvSpPr>
        <p:spPr>
          <a:xfrm>
            <a:off x="167148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6"/>
          <p:cNvSpPr/>
          <p:nvPr/>
        </p:nvSpPr>
        <p:spPr>
          <a:xfrm>
            <a:off x="1285920" y="1500120"/>
            <a:ext cx="6480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714240" y="928800"/>
          <a:ext cx="8001000" cy="5879880"/>
        </p:xfrm>
        <a:graphic>
          <a:graphicData uri="http://schemas.openxmlformats.org/drawingml/2006/table">
            <a:tbl>
              <a:tblPr/>
              <a:tblGrid>
                <a:gridCol w="1067040"/>
                <a:gridCol w="480960"/>
                <a:gridCol w="385560"/>
                <a:gridCol w="341640"/>
                <a:gridCol w="512640"/>
                <a:gridCol w="493560"/>
                <a:gridCol w="432000"/>
                <a:gridCol w="434880"/>
                <a:gridCol w="433440"/>
                <a:gridCol w="431640"/>
                <a:gridCol w="435240"/>
                <a:gridCol w="431640"/>
                <a:gridCol w="434880"/>
                <a:gridCol w="433440"/>
                <a:gridCol w="432000"/>
                <a:gridCol w="434880"/>
                <a:gridCol w="385560"/>
              </a:tblGrid>
              <a:tr h="71388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сновные работн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ж рабо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5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З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катег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е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еда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еда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о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 обще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5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1-15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 до 20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20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организа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 Д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еры –преподав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пед. работников + руков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+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овмест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организа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 Д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еры –преподав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по данной катег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2" name="Прямоугольник 7"/>
          <p:cNvSpPr/>
          <p:nvPr/>
        </p:nvSpPr>
        <p:spPr>
          <a:xfrm>
            <a:off x="1571760" y="357120"/>
            <a:ext cx="53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644e"/>
                </a:solidFill>
                <a:latin typeface="Arial"/>
              </a:rPr>
              <a:t>Кадровое обеспе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Рисунок 4" descr="BOOKSF копия.gif"/>
          <p:cNvPicPr/>
          <p:nvPr/>
        </p:nvPicPr>
        <p:blipFill>
          <a:blip r:embed="rId1"/>
          <a:stretch/>
        </p:blipFill>
        <p:spPr>
          <a:xfrm>
            <a:off x="22320" y="0"/>
            <a:ext cx="9121680" cy="664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4" name="Text Box 4"/>
          <p:cNvSpPr/>
          <p:nvPr/>
        </p:nvSpPr>
        <p:spPr>
          <a:xfrm>
            <a:off x="167148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1285920" y="1500120"/>
            <a:ext cx="6480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714240" y="1143000"/>
          <a:ext cx="7715520" cy="2481120"/>
        </p:xfrm>
        <a:graphic>
          <a:graphicData uri="http://schemas.openxmlformats.org/drawingml/2006/table">
            <a:tbl>
              <a:tblPr/>
              <a:tblGrid>
                <a:gridCol w="1254240"/>
                <a:gridCol w="1677960"/>
                <a:gridCol w="4783320"/>
              </a:tblGrid>
              <a:tr h="639720">
                <a:tc rowSpan="4">
                  <a:txBody>
                    <a:bodyPr lIns="65520" rIns="65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520" marR="655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Бобкова Е.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ерентьева Т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ершукова Е.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520" marR="655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ауреат 3 степени </a:t>
                      </a:r>
                      <a:r>
                        <a:rPr b="1" lang="ru-RU" sz="1400" spc="-1" strike="noStrike">
                          <a:solidFill>
                            <a:srgbClr val="6c4c2c"/>
                          </a:solidFill>
                          <a:latin typeface="Times New Roman"/>
                          <a:ea typeface="Times New Roman"/>
                        </a:rPr>
                        <a:t>Областного марафона образовательного маркетинга «Быть Брендом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Шведова О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520" marR="655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 место </a:t>
                      </a:r>
                      <a:r>
                        <a:rPr b="1" lang="ru-RU" sz="1400" spc="-1" strike="noStrike">
                          <a:solidFill>
                            <a:srgbClr val="7c4b3b"/>
                          </a:solidFill>
                          <a:latin typeface="Times New Roman"/>
                          <a:ea typeface="Times New Roman"/>
                        </a:rPr>
                        <a:t>Конкурс молодых педагогов, реализующих дополнительные общеобразовательные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Юсуп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Гульнара Марат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520" marR="655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место </a:t>
                      </a:r>
                      <a:r>
                        <a:rPr b="1" lang="ru-RU" sz="1400" spc="-1" strike="noStrike">
                          <a:solidFill>
                            <a:srgbClr val="6c4c2c"/>
                          </a:solidFill>
                          <a:latin typeface="Franklin Gothic Book"/>
                        </a:rPr>
                        <a:t>Областной конкурс образовательных программ технической направленности в номинации «Техническое творчество с использованием информационных технологий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акарова Е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520" marR="655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 место </a:t>
                      </a:r>
                      <a:r>
                        <a:rPr b="1" lang="ru-RU" sz="1400" spc="-1" strike="noStrike">
                          <a:solidFill>
                            <a:srgbClr val="7c4b3b"/>
                          </a:solidFill>
                          <a:latin typeface="Franklin Gothic Book"/>
                        </a:rPr>
                        <a:t>Областной конкурс образовательных программ технической направленности в номинации «Робототехника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714240" y="3714840"/>
          <a:ext cx="7715520" cy="928440"/>
        </p:xfrm>
        <a:graphic>
          <a:graphicData uri="http://schemas.openxmlformats.org/drawingml/2006/table">
            <a:tbl>
              <a:tblPr/>
              <a:tblGrid>
                <a:gridCol w="1285920"/>
                <a:gridCol w="1643040"/>
                <a:gridCol w="4786560"/>
              </a:tblGrid>
              <a:tr h="928440">
                <a:tc>
                  <a:txBody>
                    <a:bodyPr lIns="65520" rIns="65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520" marR="655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Чемырёва А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Бабушкина И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520" marR="655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 место </a:t>
                      </a:r>
                      <a:r>
                        <a:rPr b="1" lang="ru-RU" sz="1400" spc="-1" strike="noStrike">
                          <a:solidFill>
                            <a:srgbClr val="7c4b3b"/>
                          </a:solidFill>
                          <a:latin typeface="Times New Roman"/>
                          <a:ea typeface="Times New Roman"/>
                        </a:rPr>
                        <a:t>Областной конкурс методических разработок педагогов "Открытые уроки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 место </a:t>
                      </a:r>
                      <a:r>
                        <a:rPr b="1" lang="ru-RU" sz="1400" spc="-1" strike="noStrike">
                          <a:solidFill>
                            <a:srgbClr val="7c4b3b"/>
                          </a:solidFill>
                          <a:latin typeface="Times New Roman"/>
                          <a:ea typeface="Times New Roman"/>
                        </a:rPr>
                        <a:t>Областной конкурс методических разработок педагогов "Открытые урок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714240" y="4786200"/>
          <a:ext cx="7643880" cy="500040"/>
        </p:xfrm>
        <a:graphic>
          <a:graphicData uri="http://schemas.openxmlformats.org/drawingml/2006/table">
            <a:tbl>
              <a:tblPr/>
              <a:tblGrid>
                <a:gridCol w="1274760"/>
                <a:gridCol w="1627200"/>
                <a:gridCol w="4741920"/>
              </a:tblGrid>
              <a:tr h="500040">
                <a:tc>
                  <a:txBody>
                    <a:bodyPr lIns="65520" rIns="65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520" marR="655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айдёнкова О.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520" marR="655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Лауреат 1 степени </a:t>
                      </a:r>
                      <a:r>
                        <a:rPr b="1" lang="ru-RU" sz="1400" spc="-1" strike="noStrike">
                          <a:solidFill>
                            <a:srgbClr val="7c4b3b"/>
                          </a:solidFill>
                          <a:latin typeface="Times New Roman"/>
                          <a:ea typeface="Times New Roman"/>
                        </a:rPr>
                        <a:t>Областной конкурс педагогического мастерства «Вдохновени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59" name="Прямоугольник 8"/>
          <p:cNvSpPr/>
          <p:nvPr/>
        </p:nvSpPr>
        <p:spPr>
          <a:xfrm>
            <a:off x="2357280" y="3571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644e"/>
                </a:solidFill>
                <a:latin typeface="Arial"/>
              </a:rPr>
              <a:t>Конкурсы профессионального масте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714240" y="5429160"/>
          <a:ext cx="7643880" cy="500040"/>
        </p:xfrm>
        <a:graphic>
          <a:graphicData uri="http://schemas.openxmlformats.org/drawingml/2006/table">
            <a:tbl>
              <a:tblPr/>
              <a:tblGrid>
                <a:gridCol w="1274760"/>
                <a:gridCol w="1627200"/>
                <a:gridCol w="4741920"/>
              </a:tblGrid>
              <a:tr h="500040">
                <a:tc>
                  <a:txBody>
                    <a:bodyPr lIns="65520" rIns="65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520" marR="655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Храмова А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520" marR="655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Лауреат 3 степени </a:t>
                      </a:r>
                      <a:r>
                        <a:rPr b="1" lang="ru-RU" sz="1400" spc="-1" strike="noStrike">
                          <a:solidFill>
                            <a:srgbClr val="7c4b3b"/>
                          </a:solidFill>
                          <a:latin typeface="Times New Roman"/>
                          <a:ea typeface="Times New Roman"/>
                        </a:rPr>
                        <a:t>Областной конкурс педагогического мастерства «Сердце отдаю дет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1" name=""/>
          <p:cNvGraphicFramePr/>
          <p:nvPr/>
        </p:nvGraphicFramePr>
        <p:xfrm>
          <a:off x="714240" y="6000840"/>
          <a:ext cx="7643880" cy="639720"/>
        </p:xfrm>
        <a:graphic>
          <a:graphicData uri="http://schemas.openxmlformats.org/drawingml/2006/table">
            <a:tbl>
              <a:tblPr/>
              <a:tblGrid>
                <a:gridCol w="2924280"/>
                <a:gridCol w="4719600"/>
              </a:tblGrid>
              <a:tr h="639720">
                <a:tc>
                  <a:txBody>
                    <a:bodyPr lIns="65520" rIns="65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авлетова М.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520" marR="655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иплом победителя  1 степени  </a:t>
                      </a:r>
                      <a:r>
                        <a:rPr b="1" lang="ru-RU" sz="1400" spc="-1" strike="noStrike">
                          <a:solidFill>
                            <a:srgbClr val="7c4b3b"/>
                          </a:solidFill>
                          <a:latin typeface="Times New Roman"/>
                          <a:ea typeface="Times New Roman"/>
                        </a:rPr>
                        <a:t>Всероссийский педагогический конкурс «Лучшая методическая разработ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Заголовок 1" descr=""/>
          <p:cNvPicPr/>
          <p:nvPr/>
        </p:nvPicPr>
        <p:blipFill>
          <a:blip r:embed="rId1"/>
          <a:stretch/>
        </p:blipFill>
        <p:spPr>
          <a:xfrm>
            <a:off x="341280" y="23760"/>
            <a:ext cx="8364600" cy="1152720"/>
          </a:xfrm>
          <a:prstGeom prst="rect">
            <a:avLst/>
          </a:prstGeom>
          <a:ln w="0">
            <a:noFill/>
          </a:ln>
        </p:spPr>
      </p:pic>
      <p:sp>
        <p:nvSpPr>
          <p:cNvPr id="584" name="Прямоугольник 4"/>
          <p:cNvSpPr/>
          <p:nvPr/>
        </p:nvSpPr>
        <p:spPr>
          <a:xfrm>
            <a:off x="4357800" y="2071800"/>
            <a:ext cx="4143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9" descr="old-boock-paper"/>
          <p:cNvPicPr/>
          <p:nvPr/>
        </p:nvPicPr>
        <p:blipFill>
          <a:blip r:embed="rId2"/>
          <a:stretch/>
        </p:blipFill>
        <p:spPr>
          <a:xfrm>
            <a:off x="214200" y="1428840"/>
            <a:ext cx="3643560" cy="378612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 txBox="1"/>
          <p:nvPr/>
        </p:nvSpPr>
        <p:spPr>
          <a:xfrm>
            <a:off x="4142880" y="169920"/>
            <a:ext cx="5000760" cy="7104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txBody>
          <a:bodyPr anchor="ctr">
            <a:normAutofit fontScale="99000"/>
          </a:bodyPr>
          <a:p>
            <a:pPr marL="337680" indent="-337680"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644e"/>
                </a:solidFill>
                <a:latin typeface="Franklin Gothic Book"/>
              </a:rPr>
              <a:t>Обновление содержания программ дополнительного образования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7680" indent="-337680"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644e"/>
                </a:solidFill>
                <a:latin typeface="Franklin Gothic Book"/>
              </a:rPr>
              <a:t>Внедрение моделей доступности дополнительного образования для детей с  различными образовательным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7680" indent="-337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644e"/>
                </a:solidFill>
                <a:latin typeface="Franklin Gothic Book"/>
              </a:rPr>
              <a:t>потребностям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7680" indent="-337680"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644e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a5644e"/>
                </a:solidFill>
                <a:latin typeface="Franklin Gothic Book"/>
              </a:rPr>
              <a:t>Деятельность региональных навигаторов дополнительного образования детей. Обновление инфраструктуры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7680" indent="-337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644e"/>
                </a:solidFill>
                <a:latin typeface="Franklin Gothic Book"/>
              </a:rPr>
              <a:t>дополнительного образования детей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7680" indent="-337680"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644e"/>
                </a:solidFill>
                <a:latin typeface="Franklin Gothic Book"/>
              </a:rPr>
              <a:t>  </a:t>
            </a:r>
            <a:r>
              <a:rPr b="1" lang="ru-RU" sz="2000" spc="-1" strike="noStrike">
                <a:solidFill>
                  <a:srgbClr val="a5644e"/>
                </a:solidFill>
                <a:latin typeface="Franklin Gothic Book"/>
              </a:rPr>
              <a:t>Создание сети технологических кружков для подготовки нового поколения технологических лидеров, инженеров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7680" indent="-337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644e"/>
                </a:solidFill>
                <a:latin typeface="Franklin Gothic Book"/>
              </a:rPr>
              <a:t>а также сети школьных спортивных клубов и лиг для формирования здорового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7680" indent="-337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644e"/>
                </a:solidFill>
                <a:latin typeface="Franklin Gothic Book"/>
              </a:rPr>
              <a:t>образа жизн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Рисунок 4" descr="BOOKSF копия.gif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3" name="Text Box 4"/>
          <p:cNvSpPr/>
          <p:nvPr/>
        </p:nvSpPr>
        <p:spPr>
          <a:xfrm>
            <a:off x="167148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1285920" y="1500120"/>
            <a:ext cx="6480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оугольник 6"/>
          <p:cNvSpPr/>
          <p:nvPr/>
        </p:nvSpPr>
        <p:spPr>
          <a:xfrm>
            <a:off x="714240" y="1285920"/>
            <a:ext cx="7643880" cy="57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СП ДШИ с. Дома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Семина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Окружной семинар в рамках региональной стажерской  площадки «Система формирования художественно-творческой среды в условиях сел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СП ДОД  Центр детского творчества м.р. Кинельск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Семина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Окружной семинар «Права и обязанности эксперта ОМЭ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Опорные центры Кинельского территориального ок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Семина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Окружной семинар</a:t>
            </a:r>
            <a:r>
              <a:rPr b="0" lang="ru-RU" sz="20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«О работе в АСУ РСО и Навигаторе 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летний период и период перехода нановый учебный год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(Давлетова Марина Сергеевна, методист Опорного Цент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дополнительного образования детей м.р. Кинельский и Бобкова Екате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Витальевна, методист Опорного Центра дополнительного образования детей г.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Кинель;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Прямоугольник 7"/>
          <p:cNvSpPr/>
          <p:nvPr/>
        </p:nvSpPr>
        <p:spPr>
          <a:xfrm>
            <a:off x="2286000" y="357120"/>
            <a:ext cx="4572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РУЖНЫЕ СЕМИНАРЫ, ОРГАНИЗОВА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 ДОД   в 2023-2024 уч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Рисунок 4" descr="BOOKSF копия.gif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8" name="Text Box 4"/>
          <p:cNvSpPr/>
          <p:nvPr/>
        </p:nvSpPr>
        <p:spPr>
          <a:xfrm>
            <a:off x="167148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1285920" y="1500120"/>
            <a:ext cx="6480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Прямоугольник 5"/>
          <p:cNvSpPr/>
          <p:nvPr/>
        </p:nvSpPr>
        <p:spPr>
          <a:xfrm>
            <a:off x="714240" y="214200"/>
            <a:ext cx="77155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БОЛЬШОЙ ВСЕРОССИЙСКИЙ ФЕСТИВ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644e"/>
                </a:solidFill>
                <a:latin typeface="Arial"/>
              </a:rPr>
              <a:t>В рамках окружного этапа Большого всероссийского  фестиваля детского и юношеского творчества, в том числе  для детей  с ограниченными возможностями здоровья   в Кинельском образовательном округе было проведено 19 конкурсных мероприятий. Среди них такие, к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644e"/>
                </a:solidFill>
                <a:latin typeface="Arial"/>
              </a:rPr>
              <a:t>1. Окружной этап областного конкурса инструментального исполнительского мастерства «Музыкальная моза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644e"/>
                </a:solidFill>
                <a:latin typeface="Arial"/>
              </a:rPr>
              <a:t>2. Окружной этап  областного конкурса цифровых конкурсных работ  "Золотое сече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644e"/>
                </a:solidFill>
                <a:latin typeface="Arial"/>
              </a:rPr>
              <a:t>3.  Окружной этап  Областного конкурса детского  сольного пения "Серебряный микрофон"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644e"/>
                </a:solidFill>
                <a:latin typeface="Arial"/>
              </a:rPr>
              <a:t>4. Окружной этап  областного конкурса детских и молодежных театральных коллективов Самарской области  "Театральный порта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644e"/>
                </a:solidFill>
                <a:latin typeface="Arial"/>
              </a:rPr>
              <a:t>5. Окружной этап  областного  вокально-инструментального конкурса «Жаворронок»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644e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В окружных  конкурсных мероприятия фестиваля  приняли участие бо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250 обучающихся образовательных организаций Кинельского О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рямоугольник 6"/>
          <p:cNvSpPr/>
          <p:nvPr/>
        </p:nvSpPr>
        <p:spPr>
          <a:xfrm>
            <a:off x="2286000" y="214200"/>
            <a:ext cx="457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Рисунок 4" descr="BOOKSF копия.gif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3" name="Text Box 4"/>
          <p:cNvSpPr/>
          <p:nvPr/>
        </p:nvSpPr>
        <p:spPr>
          <a:xfrm>
            <a:off x="167148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1285920" y="1500120"/>
            <a:ext cx="6480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оугольник 5"/>
          <p:cNvSpPr/>
          <p:nvPr/>
        </p:nvSpPr>
        <p:spPr>
          <a:xfrm>
            <a:off x="714240" y="1071720"/>
            <a:ext cx="76438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2.Охват дополнительным образованием детей в возрасте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5 до 18 лет (80 % от общего количеств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3.Формирование современной системы сопровождения, развития и совершенствования профессионального мастерства педагогических и управленческих кадров сферы дополнительно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4.Реализация дополнительных общеобразовательных программ в сетевой фор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5.модернизация инфраструктуры и совершенствование профессионального мастерства педагогических и управленческих кад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6.Выравнивание доступности предоставления дополнительного образования детей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7. Продолжение работы по выявлению и развитию способностей и талантов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8. Обеспечение  возможности непрерывного повышения квалификации педагогов ДО, в том числе через  деятельность практико-ориентированных школ  и наставников сферы Д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9. Активизация работы по вовлечению родительского сообщества в процесс обучения и воспитания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Прямоугольник 6"/>
          <p:cNvSpPr/>
          <p:nvPr/>
        </p:nvSpPr>
        <p:spPr>
          <a:xfrm>
            <a:off x="2286000" y="3571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Ключевые  направления работы в 2024-2025 учебном г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Рисунок 4" descr="BOOKSF копия.gif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8" name="Text Box 4"/>
          <p:cNvSpPr/>
          <p:nvPr/>
        </p:nvSpPr>
        <p:spPr>
          <a:xfrm>
            <a:off x="167148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6"/>
          <p:cNvSpPr/>
          <p:nvPr/>
        </p:nvSpPr>
        <p:spPr>
          <a:xfrm>
            <a:off x="1285920" y="1500120"/>
            <a:ext cx="648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СПАСИБ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9"/>
          <p:cNvSpPr/>
          <p:nvPr/>
        </p:nvSpPr>
        <p:spPr>
          <a:xfrm>
            <a:off x="826920" y="907920"/>
            <a:ext cx="72741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2"/>
          <p:cNvSpPr/>
          <p:nvPr/>
        </p:nvSpPr>
        <p:spPr>
          <a:xfrm>
            <a:off x="4788000" y="1428840"/>
            <a:ext cx="3519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8"/>
          <p:cNvSpPr/>
          <p:nvPr/>
        </p:nvSpPr>
        <p:spPr>
          <a:xfrm>
            <a:off x="2571840" y="642960"/>
            <a:ext cx="47908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оугольник 6"/>
          <p:cNvSpPr/>
          <p:nvPr/>
        </p:nvSpPr>
        <p:spPr>
          <a:xfrm>
            <a:off x="1143000" y="2828880"/>
            <a:ext cx="678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644e"/>
                </a:solidFill>
                <a:latin typeface="Arial"/>
              </a:rPr>
              <a:t>Программное обеспечение системы Д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644e"/>
                </a:solidFill>
                <a:latin typeface="Arial"/>
              </a:rPr>
              <a:t>Кинельского образовательного ок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Рисунок 4" descr="BOOKSF копия.gif"/>
          <p:cNvPicPr/>
          <p:nvPr/>
        </p:nvPicPr>
        <p:blipFill>
          <a:blip r:embed="rId1"/>
          <a:stretch/>
        </p:blipFill>
        <p:spPr>
          <a:xfrm>
            <a:off x="22320" y="189000"/>
            <a:ext cx="9121680" cy="626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2" name="Text Box 3"/>
          <p:cNvSpPr/>
          <p:nvPr/>
        </p:nvSpPr>
        <p:spPr>
          <a:xfrm>
            <a:off x="900000" y="620640"/>
            <a:ext cx="7274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826920" y="1428840"/>
            <a:ext cx="741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214200" y="165240"/>
          <a:ext cx="8786880" cy="6379920"/>
        </p:xfrm>
        <a:graphic>
          <a:graphicData uri="http://schemas.openxmlformats.org/drawingml/2006/table">
            <a:tbl>
              <a:tblPr/>
              <a:tblGrid>
                <a:gridCol w="3214800"/>
                <a:gridCol w="2868480"/>
                <a:gridCol w="2703600"/>
              </a:tblGrid>
              <a:tr h="164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1581f"/>
                          </a:solidFill>
                          <a:latin typeface="Franklin Gothic Book"/>
                        </a:rPr>
                        <a:t>Направлен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ПРОГРАММЫ, реализуемые СП Д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1581f"/>
                          </a:solidFill>
                          <a:latin typeface="Franklin Gothic Book"/>
                        </a:rPr>
                        <a:t>Кол-во ДОО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1581f"/>
                          </a:solidFill>
                          <a:latin typeface="Franklin Gothic Book"/>
                        </a:rPr>
                        <a:t>Кол-во обучаю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Художестве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13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Техническ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12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8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Социально-гуманита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5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8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Физкультурно-спортив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1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41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Естественнонау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2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8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Туристско-краеведче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7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AutoShape 2"/>
          <p:cNvSpPr/>
          <p:nvPr/>
        </p:nvSpPr>
        <p:spPr>
          <a:xfrm>
            <a:off x="179280" y="0"/>
            <a:ext cx="8964720" cy="8571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fbe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1581f"/>
                </a:solidFill>
                <a:latin typeface="Arial"/>
                <a:ea typeface="Times New Roman"/>
              </a:rPr>
              <a:t>ПРОГРАММНОЕ ОБЕСПЕЧ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19"/>
          <p:cNvSpPr/>
          <p:nvPr/>
        </p:nvSpPr>
        <p:spPr>
          <a:xfrm>
            <a:off x="0" y="6381720"/>
            <a:ext cx="9144000" cy="47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357120" y="928800"/>
          <a:ext cx="8710560" cy="5576760"/>
        </p:xfrm>
        <a:graphic>
          <a:graphicData uri="http://schemas.openxmlformats.org/drawingml/2006/table">
            <a:tbl>
              <a:tblPr/>
              <a:tblGrid>
                <a:gridCol w="500040"/>
                <a:gridCol w="2214720"/>
                <a:gridCol w="1214280"/>
                <a:gridCol w="1214640"/>
                <a:gridCol w="1214280"/>
                <a:gridCol w="1071720"/>
                <a:gridCol w="1280880"/>
              </a:tblGrid>
              <a:tr h="256068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 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рограмм, основанных на модульном принцип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рограмм, в которых используются  дистанционные образовательные технологии обуч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азноуровневых пр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знакомительный, базовый, продвинутый уровн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ализуемых дополнительных общеобразовательных программ в рамках сетевого взаимодействия ( по договору) или сетевой форм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1581f"/>
                          </a:solidFill>
                          <a:latin typeface="Segoe UI Black"/>
                          <a:ea typeface="Segoe UI Black"/>
                        </a:rPr>
                        <a:t>Художестве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1581f"/>
                          </a:solidFill>
                          <a:latin typeface="Segoe UI Black"/>
                          <a:ea typeface="Segoe UI Black"/>
                        </a:rPr>
                        <a:t>Техническ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1581f"/>
                          </a:solidFill>
                          <a:latin typeface="Segoe UI Black"/>
                          <a:ea typeface="Segoe UI Black"/>
                        </a:rPr>
                        <a:t>Социально –гуманитар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1581f"/>
                          </a:solidFill>
                          <a:latin typeface="Segoe UI Black"/>
                          <a:ea typeface="Segoe UI Black"/>
                        </a:rPr>
                        <a:t>Физкультурно-спор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1581f"/>
                          </a:solidFill>
                          <a:latin typeface="Segoe UI Black"/>
                          <a:ea typeface="Segoe UI Black"/>
                        </a:rPr>
                        <a:t>Естественнонауч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1581f"/>
                          </a:solidFill>
                          <a:latin typeface="Segoe UI Black"/>
                          <a:ea typeface="Segoe UI Black"/>
                        </a:rPr>
                        <a:t>Туристско-краеведче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1581f"/>
                          </a:solidFill>
                          <a:latin typeface="Segoe UI Black"/>
                          <a:ea typeface="Segoe UI Black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2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Рисунок 4" descr="BOOKSF копия.gif"/>
          <p:cNvPicPr/>
          <p:nvPr/>
        </p:nvPicPr>
        <p:blipFill>
          <a:blip r:embed="rId1"/>
          <a:stretch/>
        </p:blipFill>
        <p:spPr>
          <a:xfrm>
            <a:off x="0" y="189000"/>
            <a:ext cx="9121680" cy="688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9" name="Text Box 6"/>
          <p:cNvSpPr/>
          <p:nvPr/>
        </p:nvSpPr>
        <p:spPr>
          <a:xfrm>
            <a:off x="826920" y="1428840"/>
            <a:ext cx="741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оугольник 5"/>
          <p:cNvSpPr/>
          <p:nvPr/>
        </p:nvSpPr>
        <p:spPr>
          <a:xfrm>
            <a:off x="714240" y="714240"/>
            <a:ext cx="792972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Программы каникулярной занятости, реализуемые  в летний пери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2023-2024 уч.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644e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a5644e"/>
                </a:solidFill>
                <a:latin typeface="Arial"/>
              </a:rPr>
              <a:t>«Спортивные ребята» ( ДЮСШ пос. Комсомольск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644e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a5644e"/>
                </a:solidFill>
                <a:latin typeface="Arial"/>
              </a:rPr>
              <a:t>Окружная профильная смена «Инженерные каникулы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644e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a5644e"/>
                </a:solidFill>
                <a:latin typeface="Arial"/>
              </a:rPr>
              <a:t>( СП ДОД «Перспектива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644e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a5644e"/>
                </a:solidFill>
                <a:latin typeface="Arial"/>
              </a:rPr>
              <a:t>«Лето с пользой», «Спортивное лето» ( СП Д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644e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a5644e"/>
                </a:solidFill>
                <a:latin typeface="Arial"/>
              </a:rPr>
              <a:t>«Вундеркинд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644e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a5644e"/>
                </a:solidFill>
                <a:latin typeface="Arial"/>
              </a:rPr>
              <a:t>«Окружная Профильная смена «Орлята – эт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644e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a5644e"/>
                </a:solidFill>
                <a:latin typeface="Arial"/>
              </a:rPr>
              <a:t>мы» ( СП ЦДТ м.р. Кинельский, СП ДОД «Вдохновение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644e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a5644e"/>
                </a:solidFill>
                <a:latin typeface="Arial"/>
              </a:rPr>
              <a:t>«Волшебный ларец семейных традиций» (СП ДШ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644e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a5644e"/>
                </a:solidFill>
                <a:latin typeface="Arial"/>
              </a:rPr>
              <a:t>с. Домаш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644e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a5644e"/>
                </a:solidFill>
                <a:latin typeface="Arial"/>
              </a:rPr>
              <a:t>«Новаторы», «Мир глазами художника» (СП ЦД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644e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a5644e"/>
                </a:solidFill>
                <a:latin typeface="Arial"/>
              </a:rPr>
              <a:t>«Гармония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644e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644e"/>
                </a:solidFill>
                <a:latin typeface="Arial"/>
              </a:rPr>
              <a:t>- в том числе дистанцион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644e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a5644e"/>
                </a:solidFill>
                <a:latin typeface="Arial"/>
              </a:rPr>
              <a:t>летняя профильная онлайн- смена  «Летние каникулы» ( СП ДОД «Вдохновение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644e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a5644e"/>
                </a:solidFill>
                <a:latin typeface="Arial"/>
              </a:rPr>
              <a:t>«Мастерилки» (СП ДОД «Вундеркинд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644e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Рисунок 4" descr="BOOKSF копия.gif"/>
          <p:cNvPicPr/>
          <p:nvPr/>
        </p:nvPicPr>
        <p:blipFill>
          <a:blip r:embed="rId1"/>
          <a:stretch/>
        </p:blipFill>
        <p:spPr>
          <a:xfrm>
            <a:off x="22320" y="189000"/>
            <a:ext cx="9121680" cy="609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2" name="Text Box 3"/>
          <p:cNvSpPr/>
          <p:nvPr/>
        </p:nvSpPr>
        <p:spPr>
          <a:xfrm>
            <a:off x="900000" y="620640"/>
            <a:ext cx="72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ЕХНИЧЕСКАЯ  НАПРАВЛЕННО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826920" y="1428840"/>
            <a:ext cx="741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"/>
          <p:cNvSpPr/>
          <p:nvPr/>
        </p:nvSpPr>
        <p:spPr>
          <a:xfrm>
            <a:off x="1440" y="360"/>
            <a:ext cx="2811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1f1f"/>
                </a:solidFill>
                <a:latin typeface="Arial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500040" y="1428840"/>
          <a:ext cx="8143920" cy="4653000"/>
        </p:xfrm>
        <a:graphic>
          <a:graphicData uri="http://schemas.openxmlformats.org/drawingml/2006/table">
            <a:tbl>
              <a:tblPr/>
              <a:tblGrid>
                <a:gridCol w="2919600"/>
                <a:gridCol w="1168200"/>
                <a:gridCol w="1455840"/>
                <a:gridCol w="1244520"/>
                <a:gridCol w="13557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СП Д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022-2023 уч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023-2024 уч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3986d"/>
                          </a:solidFill>
                          <a:latin typeface="Franklin Gothic Book"/>
                        </a:rPr>
                        <a:t>програ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3986d"/>
                          </a:solidFill>
                          <a:latin typeface="Franklin Gothic Book"/>
                        </a:rPr>
                        <a:t>кол-во </a:t>
                      </a:r>
                      <a:r>
                        <a:rPr b="0" lang="ru-RU" sz="1400" spc="-1" strike="noStrike">
                          <a:solidFill>
                            <a:srgbClr val="c3986d"/>
                          </a:solidFill>
                          <a:latin typeface="Franklin Gothic Book"/>
                        </a:rPr>
                        <a:t>обучаю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3986d"/>
                          </a:solidFill>
                          <a:latin typeface="Franklin Gothic Book"/>
                        </a:rPr>
                        <a:t>програ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3986d"/>
                          </a:solidFill>
                          <a:latin typeface="Franklin Gothic Book"/>
                        </a:rPr>
                        <a:t>кол-во обучаю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644e"/>
                          </a:solidFill>
                          <a:latin typeface="Arial"/>
                        </a:rPr>
                        <a:t>СП ДОД «Вдохновени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3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3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644e"/>
                          </a:solidFill>
                          <a:latin typeface="Arial"/>
                        </a:rPr>
                        <a:t>СП ЦВР «Гармон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3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3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644e"/>
                          </a:solidFill>
                          <a:latin typeface="Arial"/>
                        </a:rPr>
                        <a:t>СП ДОД «Вундеркинд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697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644e"/>
                          </a:solidFill>
                          <a:latin typeface="Arial"/>
                        </a:rPr>
                        <a:t>СП ДОД ЦД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644e"/>
                          </a:solidFill>
                          <a:latin typeface="Arial"/>
                        </a:rPr>
                        <a:t>пос. Кинель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3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644e"/>
                          </a:solidFill>
                          <a:latin typeface="Arial"/>
                        </a:rPr>
                        <a:t>СП «Перспектива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5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6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66120">
                <a:tc gridSpan="5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Рисунок 4" descr="BOOKSF копия.gif"/>
          <p:cNvPicPr/>
          <p:nvPr/>
        </p:nvPicPr>
        <p:blipFill>
          <a:blip r:embed="rId1"/>
          <a:stretch/>
        </p:blipFill>
        <p:spPr>
          <a:xfrm>
            <a:off x="22320" y="285840"/>
            <a:ext cx="9121680" cy="626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7" name="Text Box 3"/>
          <p:cNvSpPr/>
          <p:nvPr/>
        </p:nvSpPr>
        <p:spPr>
          <a:xfrm>
            <a:off x="928800" y="42876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644e"/>
                </a:solidFill>
                <a:latin typeface="Arial"/>
              </a:rPr>
              <a:t>ЕСТЕСТВЕННОНАУЧНАЯ  НАПРАВЛЕННО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826920" y="1428840"/>
            <a:ext cx="74170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785880" y="1214280"/>
          <a:ext cx="7572240" cy="5143680"/>
        </p:xfrm>
        <a:graphic>
          <a:graphicData uri="http://schemas.openxmlformats.org/drawingml/2006/table">
            <a:tbl>
              <a:tblPr/>
              <a:tblGrid>
                <a:gridCol w="2119320"/>
                <a:gridCol w="1328760"/>
                <a:gridCol w="1415880"/>
                <a:gridCol w="1389240"/>
                <a:gridCol w="1319040"/>
              </a:tblGrid>
              <a:tr h="72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СП Д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c4b3b"/>
                          </a:solidFill>
                          <a:latin typeface="Franklin Gothic Book"/>
                        </a:rPr>
                        <a:t>2022-2023 уч.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023-2024 уч.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c4b3b"/>
                          </a:solidFill>
                          <a:latin typeface="Franklin Gothic Book"/>
                        </a:rPr>
                        <a:t>Кол-во ДОО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c4b3b"/>
                          </a:solidFill>
                          <a:latin typeface="Franklin Gothic Book"/>
                        </a:rPr>
                        <a:t>Кол-во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Кол-во ДОО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Кол-во об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СП «Вдохновени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c4b3b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c4b3b"/>
                          </a:solidFill>
                          <a:latin typeface="Franklin Gothic Book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СП «Гармони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c4b3b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c4b3b"/>
                          </a:solidFill>
                          <a:latin typeface="Franklin Gothic Book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СП ЦДТ п. Кинель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c4b3b"/>
                          </a:solidFill>
                          <a:latin typeface="Franklin Gothic 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c4b3b"/>
                          </a:solidFill>
                          <a:latin typeface="Franklin Gothic Book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6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c4b3b"/>
                          </a:solidFill>
                          <a:latin typeface="Franklin Gothic Book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c4b3b"/>
                          </a:solidFill>
                          <a:latin typeface="Franklin Gothic Book"/>
                        </a:rPr>
                        <a:t>2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Рисунок 4" descr="BOOKSF копия.gif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1" name="Text Box 3"/>
          <p:cNvSpPr/>
          <p:nvPr/>
        </p:nvSpPr>
        <p:spPr>
          <a:xfrm>
            <a:off x="900000" y="620640"/>
            <a:ext cx="72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644e"/>
                </a:solidFill>
                <a:latin typeface="Arial"/>
              </a:rPr>
              <a:t>ЭКСПЕРТИЗА ПР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826920" y="1428840"/>
            <a:ext cx="741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714240" y="1428840"/>
          <a:ext cx="7643880" cy="4746600"/>
        </p:xfrm>
        <a:graphic>
          <a:graphicData uri="http://schemas.openxmlformats.org/drawingml/2006/table">
            <a:tbl>
              <a:tblPr/>
              <a:tblGrid>
                <a:gridCol w="2919600"/>
                <a:gridCol w="1374840"/>
                <a:gridCol w="1631880"/>
                <a:gridCol w="171756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НАЗВАНИЕ СП Д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Кол-во ДО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ДОП, прошедшие внутреннюю эксперти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ДОП, прошедшие внешнюю эксперти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СП «Вдохновени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СП «Вундеркинд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СП «Гармони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Arial"/>
                        </a:rPr>
                        <a:t>СП ДОД ЦД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Arial"/>
                        </a:rPr>
                        <a:t>пос. Кинель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ДЮСШ г. Кин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ДЮСШ рай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644e"/>
                          </a:solidFill>
                          <a:latin typeface="Franklin Gothic Book"/>
                        </a:rPr>
                        <a:t>СП  «Перспектив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10:08:26Z</dcterms:created>
  <dc:creator>Игорь</dc:creator>
  <dc:description/>
  <dc:language>en-US</dc:language>
  <cp:lastModifiedBy>I</cp:lastModifiedBy>
  <dcterms:modified xsi:type="dcterms:W3CDTF">2024-09-20T06:53:49Z</dcterms:modified>
  <cp:revision>251</cp:revision>
  <dc:subject/>
  <dc:title>Научно-методическое обеспечение образовательного процесса как условие повышения его результативности и качества</dc:title>
</cp:coreProperties>
</file>